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5370513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B6E2-F108-4626-9728-67BEB61AF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926640"/>
            <a:ext cx="82296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069360"/>
            <a:ext cx="82296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1002-5360-453F-A854-EF8CE5970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92664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92664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06936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06936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6173-E4C8-4C02-B787-3F3E4AC81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926640"/>
            <a:ext cx="26496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926640"/>
            <a:ext cx="26496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926640"/>
            <a:ext cx="26496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069360"/>
            <a:ext cx="26496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069360"/>
            <a:ext cx="26496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069360"/>
            <a:ext cx="26496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9F04-C7B5-4452-9EB6-C551E8E54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926640"/>
            <a:ext cx="822960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26640"/>
            <a:ext cx="82296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926640"/>
            <a:ext cx="40158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926640"/>
            <a:ext cx="40158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6840" y="4680"/>
            <a:ext cx="7056360" cy="34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92664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926640"/>
            <a:ext cx="40158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06936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926640"/>
            <a:ext cx="822960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DA91-2195-4667-AFB0-D7B1D2C15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926640"/>
            <a:ext cx="40158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92664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06936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92664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92664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069360"/>
            <a:ext cx="82296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926640"/>
            <a:ext cx="82296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069360"/>
            <a:ext cx="82296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92664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92664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06936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06936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926640"/>
            <a:ext cx="26496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926640"/>
            <a:ext cx="26496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926640"/>
            <a:ext cx="26496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069360"/>
            <a:ext cx="26496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069360"/>
            <a:ext cx="26496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069360"/>
            <a:ext cx="26496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926640"/>
            <a:ext cx="82296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53C3-0646-4BFC-ABE0-908B14AA0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926640"/>
            <a:ext cx="40158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926640"/>
            <a:ext cx="40158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E882-CBD6-40E7-9ADD-AB8EB5B25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D6FB-A2DE-4D25-B8C8-559502F84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4680"/>
            <a:ext cx="7056360" cy="34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B257-4CFF-4275-98E1-417FDECF9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92664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926640"/>
            <a:ext cx="40158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06936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4EE8-4A45-43BA-A2D5-F4DBBF67B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926640"/>
            <a:ext cx="40158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92664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06936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ADBF-9E7C-4507-A47F-F6C05FCBB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92664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92664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069360"/>
            <a:ext cx="82296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55E7-264C-4B21-97BB-D8231E962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d2d2"/>
            </a:gs>
            <a:gs pos="50000">
              <a:srgbClr val="ebf3ff"/>
            </a:gs>
            <a:gs pos="100000">
              <a:srgbClr val="d2d2d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3"/>
          <p:cNvSpPr/>
          <p:nvPr/>
        </p:nvSpPr>
        <p:spPr>
          <a:xfrm>
            <a:off x="0" y="5092560"/>
            <a:ext cx="9147240" cy="279720"/>
          </a:xfrm>
          <a:prstGeom prst="rect">
            <a:avLst/>
          </a:prstGeom>
          <a:gradFill rotWithShape="0">
            <a:gsLst>
              <a:gs pos="0">
                <a:srgbClr val="d2d2d2"/>
              </a:gs>
              <a:gs pos="100000">
                <a:srgbClr val="ebf3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Rectangle 9"/>
          <p:cNvSpPr/>
          <p:nvPr/>
        </p:nvSpPr>
        <p:spPr>
          <a:xfrm>
            <a:off x="-1440" y="0"/>
            <a:ext cx="9140760" cy="77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926640"/>
            <a:ext cx="82296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467a"/>
              </a:buClr>
              <a:buFont typeface="Courier New"/>
              <a:buChar char="▪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343080" indent="-343080">
              <a:lnSpc>
                <a:spcPct val="90000"/>
              </a:lnSpc>
              <a:spcBef>
                <a:spcPts val="601"/>
              </a:spcBef>
              <a:buClr>
                <a:srgbClr val="00467a"/>
              </a:buClr>
              <a:buFont typeface="Courier New"/>
              <a:buChar char="▫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343080" indent="-343080">
              <a:lnSpc>
                <a:spcPct val="90000"/>
              </a:lnSpc>
              <a:spcBef>
                <a:spcPts val="601"/>
              </a:spcBef>
              <a:buClr>
                <a:srgbClr val="00467a"/>
              </a:buClr>
              <a:buFont typeface="Courier Ne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343080" indent="-343080">
              <a:lnSpc>
                <a:spcPct val="90000"/>
              </a:lnSpc>
              <a:spcBef>
                <a:spcPts val="601"/>
              </a:spcBef>
              <a:buClr>
                <a:srgbClr val="00467a"/>
              </a:buClr>
              <a:buFont typeface="Courier New"/>
              <a:buChar char="◦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◦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◦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5167440"/>
            <a:ext cx="2133720" cy="2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467a"/>
                </a:solidFill>
                <a:latin typeface="Arial Narro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CD97E-928E-4CF6-A555-79C28610DEE0}" type="datetime">
              <a:rPr b="0" lang="de-DE" sz="1000" spc="-1" strike="noStrike">
                <a:solidFill>
                  <a:srgbClr val="00467a"/>
                </a:solidFill>
                <a:latin typeface="Arial Narrow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5167440"/>
            <a:ext cx="2895840" cy="2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467a"/>
                </a:solidFill>
                <a:latin typeface="Arial Narrow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467a"/>
                </a:solidFill>
                <a:latin typeface="Arial Narrow"/>
              </a:rPr>
              <a:t>LUNAR GmbH 2010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5167440"/>
            <a:ext cx="2133720" cy="2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467a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E9510-42CE-49DE-9F45-3759F7A8FE7A}" type="slidenum">
              <a:rPr b="0" lang="de-DE" sz="1000" spc="-1" strike="noStrike">
                <a:solidFill>
                  <a:srgbClr val="00467a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Line 15"/>
          <p:cNvSpPr/>
          <p:nvPr/>
        </p:nvSpPr>
        <p:spPr>
          <a:xfrm>
            <a:off x="0" y="771480"/>
            <a:ext cx="9144000" cy="0"/>
          </a:xfrm>
          <a:prstGeom prst="line">
            <a:avLst/>
          </a:prstGeom>
          <a:ln w="6480">
            <a:solidFill>
              <a:srgbClr val="0046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Line 17"/>
          <p:cNvSpPr/>
          <p:nvPr/>
        </p:nvSpPr>
        <p:spPr>
          <a:xfrm>
            <a:off x="0" y="0"/>
            <a:ext cx="91440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" name="Line 15"/>
          <p:cNvSpPr/>
          <p:nvPr/>
        </p:nvSpPr>
        <p:spPr>
          <a:xfrm>
            <a:off x="0" y="5091120"/>
            <a:ext cx="9144000" cy="0"/>
          </a:xfrm>
          <a:prstGeom prst="line">
            <a:avLst/>
          </a:prstGeom>
          <a:ln w="6480">
            <a:solidFill>
              <a:srgbClr val="0046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45684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67a"/>
                </a:solidFill>
                <a:latin typeface="Arial Narrow"/>
              </a:rPr>
              <a:t>Click to edit the title text format</a:t>
            </a: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pic>
        <p:nvPicPr>
          <p:cNvPr id="10" name="Grafik 12" descr=""/>
          <p:cNvPicPr/>
          <p:nvPr/>
        </p:nvPicPr>
        <p:blipFill>
          <a:blip r:embed="rId2"/>
          <a:stretch/>
        </p:blipFill>
        <p:spPr>
          <a:xfrm>
            <a:off x="7808760" y="109440"/>
            <a:ext cx="119880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d2d2"/>
            </a:gs>
            <a:gs pos="50000">
              <a:srgbClr val="ebf3ff"/>
            </a:gs>
            <a:gs pos="100000">
              <a:srgbClr val="d2d2d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55"/>
          <p:cNvSpPr/>
          <p:nvPr/>
        </p:nvSpPr>
        <p:spPr>
          <a:xfrm>
            <a:off x="0" y="1139760"/>
            <a:ext cx="9144000" cy="3351240"/>
          </a:xfrm>
          <a:prstGeom prst="rect">
            <a:avLst/>
          </a:prstGeom>
          <a:solidFill>
            <a:srgbClr val="ebf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Rectangle 54"/>
          <p:cNvSpPr/>
          <p:nvPr/>
        </p:nvSpPr>
        <p:spPr>
          <a:xfrm>
            <a:off x="0" y="4470480"/>
            <a:ext cx="9144000" cy="73080"/>
          </a:xfrm>
          <a:prstGeom prst="rect">
            <a:avLst/>
          </a:prstGeom>
          <a:gradFill rotWithShape="0">
            <a:gsLst>
              <a:gs pos="0">
                <a:srgbClr val="d2d2d2"/>
              </a:gs>
              <a:gs pos="100000">
                <a:srgbClr val="ebf3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9" name="Grafik 15" descr=""/>
          <p:cNvPicPr/>
          <p:nvPr/>
        </p:nvPicPr>
        <p:blipFill>
          <a:blip r:embed="rId2"/>
          <a:stretch/>
        </p:blipFill>
        <p:spPr>
          <a:xfrm>
            <a:off x="7808760" y="109440"/>
            <a:ext cx="1198800" cy="5414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457200" y="926640"/>
            <a:ext cx="82296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467a"/>
              </a:buClr>
              <a:buFont typeface="Courier New"/>
              <a:buChar char="▪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343080" indent="-343080">
              <a:lnSpc>
                <a:spcPct val="90000"/>
              </a:lnSpc>
              <a:spcBef>
                <a:spcPts val="601"/>
              </a:spcBef>
              <a:buClr>
                <a:srgbClr val="00467a"/>
              </a:buClr>
              <a:buFont typeface="Courier New"/>
              <a:buChar char="▫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343080" indent="-343080">
              <a:lnSpc>
                <a:spcPct val="90000"/>
              </a:lnSpc>
              <a:spcBef>
                <a:spcPts val="601"/>
              </a:spcBef>
              <a:buClr>
                <a:srgbClr val="00467a"/>
              </a:buClr>
              <a:buFont typeface="Courier Ne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343080" indent="-343080">
              <a:lnSpc>
                <a:spcPct val="90000"/>
              </a:lnSpc>
              <a:spcBef>
                <a:spcPts val="601"/>
              </a:spcBef>
              <a:buClr>
                <a:srgbClr val="00467a"/>
              </a:buClr>
              <a:buFont typeface="Courier New"/>
              <a:buChar char="◦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◦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◦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5684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67a"/>
                </a:solidFill>
                <a:latin typeface="Arial Narrow"/>
              </a:rPr>
              <a:t>Click to edit the title text format</a:t>
            </a: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Datumsplatzhalter 3"/>
          <p:cNvSpPr/>
          <p:nvPr/>
        </p:nvSpPr>
        <p:spPr>
          <a:xfrm>
            <a:off x="457200" y="5167440"/>
            <a:ext cx="21337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1605E-4B43-4742-A238-8C45A39FBB35}" type="datetime">
              <a:rPr b="0" lang="de-DE" sz="1000" spc="-1" strike="noStrike">
                <a:solidFill>
                  <a:srgbClr val="00467a"/>
                </a:solidFill>
                <a:latin typeface="Arial Narrow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Foliennummernplatzhalter 5"/>
          <p:cNvSpPr/>
          <p:nvPr/>
        </p:nvSpPr>
        <p:spPr>
          <a:xfrm>
            <a:off x="6553080" y="5167440"/>
            <a:ext cx="21337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8B888-8927-4D59-9889-C94C752C7F19}" type="slidenum">
              <a:rPr b="0" lang="de-DE" sz="1000" spc="-1" strike="noStrike">
                <a:solidFill>
                  <a:srgbClr val="00467a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8960" y="12240"/>
            <a:ext cx="8543880" cy="7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669e"/>
                </a:solidFill>
                <a:latin typeface="Calibri"/>
              </a:rPr>
              <a:t>Monatsbericht: Projektname</a:t>
            </a: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65240" y="1123920"/>
            <a:ext cx="1457280" cy="281160"/>
          </a:xfrm>
          <a:prstGeom prst="rect">
            <a:avLst/>
          </a:prstGeom>
          <a:solidFill>
            <a:srgbClr val="00669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Auftraggeber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1693800" y="1125360"/>
            <a:ext cx="1873440" cy="27972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XXXX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163440" y="1467000"/>
            <a:ext cx="1457280" cy="301320"/>
          </a:xfrm>
          <a:prstGeom prst="rect">
            <a:avLst/>
          </a:prstGeom>
          <a:solidFill>
            <a:srgbClr val="00669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Projektleiter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1692360" y="1468440"/>
            <a:ext cx="1873080" cy="29988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XXXX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Text Box 15"/>
          <p:cNvSpPr/>
          <p:nvPr/>
        </p:nvSpPr>
        <p:spPr>
          <a:xfrm>
            <a:off x="3659040" y="804960"/>
            <a:ext cx="1059120" cy="280800"/>
          </a:xfrm>
          <a:prstGeom prst="rect">
            <a:avLst/>
          </a:prstGeom>
          <a:solidFill>
            <a:srgbClr val="00669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Starttermin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Rectangle 16"/>
          <p:cNvSpPr/>
          <p:nvPr/>
        </p:nvSpPr>
        <p:spPr>
          <a:xfrm>
            <a:off x="4776840" y="806400"/>
            <a:ext cx="928800" cy="27936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xx.yy.zzzz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Text Box 17"/>
          <p:cNvSpPr/>
          <p:nvPr/>
        </p:nvSpPr>
        <p:spPr>
          <a:xfrm>
            <a:off x="3670200" y="1128600"/>
            <a:ext cx="1047960" cy="289080"/>
          </a:xfrm>
          <a:prstGeom prst="rect">
            <a:avLst/>
          </a:prstGeom>
          <a:solidFill>
            <a:srgbClr val="00669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Umsetzung bis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Rectangle 18"/>
          <p:cNvSpPr/>
          <p:nvPr/>
        </p:nvSpPr>
        <p:spPr>
          <a:xfrm>
            <a:off x="4775040" y="1130400"/>
            <a:ext cx="935280" cy="28080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xx.yy.zzzz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Text Box 25"/>
          <p:cNvSpPr/>
          <p:nvPr/>
        </p:nvSpPr>
        <p:spPr>
          <a:xfrm>
            <a:off x="160200" y="1968480"/>
            <a:ext cx="1438560" cy="281160"/>
          </a:xfrm>
          <a:prstGeom prst="rect">
            <a:avLst/>
          </a:prstGeom>
          <a:solidFill>
            <a:srgbClr val="00669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Name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Rectangle 26"/>
          <p:cNvSpPr/>
          <p:nvPr/>
        </p:nvSpPr>
        <p:spPr>
          <a:xfrm>
            <a:off x="1660680" y="1968480"/>
            <a:ext cx="1734840" cy="27936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Arial Narrow"/>
              </a:rPr>
              <a:t>AP-Verantwortlicher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Rectangle 29"/>
          <p:cNvSpPr/>
          <p:nvPr/>
        </p:nvSpPr>
        <p:spPr>
          <a:xfrm>
            <a:off x="1693800" y="808200"/>
            <a:ext cx="1873440" cy="27936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0000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Text Box 30"/>
          <p:cNvSpPr/>
          <p:nvPr/>
        </p:nvSpPr>
        <p:spPr>
          <a:xfrm>
            <a:off x="166680" y="2290680"/>
            <a:ext cx="1438200" cy="281160"/>
          </a:xfrm>
          <a:prstGeom prst="rect">
            <a:avLst/>
          </a:prstGeom>
          <a:solidFill>
            <a:srgbClr val="00669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Abteilung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Rectangle 33"/>
          <p:cNvSpPr/>
          <p:nvPr/>
        </p:nvSpPr>
        <p:spPr>
          <a:xfrm>
            <a:off x="1662120" y="2301840"/>
            <a:ext cx="173340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Xxxx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Text Box 35"/>
          <p:cNvSpPr/>
          <p:nvPr/>
        </p:nvSpPr>
        <p:spPr>
          <a:xfrm>
            <a:off x="165240" y="806400"/>
            <a:ext cx="1457280" cy="281160"/>
          </a:xfrm>
          <a:prstGeom prst="rect">
            <a:avLst/>
          </a:prstGeom>
          <a:solidFill>
            <a:srgbClr val="00669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Projektnummer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Text Box 65"/>
          <p:cNvSpPr/>
          <p:nvPr/>
        </p:nvSpPr>
        <p:spPr>
          <a:xfrm>
            <a:off x="3670200" y="1473120"/>
            <a:ext cx="1047960" cy="289080"/>
          </a:xfrm>
          <a:prstGeom prst="rect">
            <a:avLst/>
          </a:prstGeom>
          <a:solidFill>
            <a:srgbClr val="00669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Berichtszeitraum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Rectangle 66"/>
          <p:cNvSpPr/>
          <p:nvPr/>
        </p:nvSpPr>
        <p:spPr>
          <a:xfrm>
            <a:off x="4773600" y="1473120"/>
            <a:ext cx="2463840" cy="28116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Januar 20xx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160200" y="3459240"/>
            <a:ext cx="1457640" cy="606240"/>
          </a:xfrm>
          <a:prstGeom prst="rect">
            <a:avLst/>
          </a:prstGeom>
          <a:solidFill>
            <a:srgbClr val="00669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Arbeitspaket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Arbeitspaketnummer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1690560" y="3459240"/>
            <a:ext cx="40150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Xxx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Text Box 25"/>
          <p:cNvSpPr/>
          <p:nvPr/>
        </p:nvSpPr>
        <p:spPr>
          <a:xfrm>
            <a:off x="5803920" y="3463920"/>
            <a:ext cx="1438200" cy="281160"/>
          </a:xfrm>
          <a:prstGeom prst="rect">
            <a:avLst/>
          </a:prstGeom>
          <a:solidFill>
            <a:srgbClr val="00669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Aufwand: pla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" name="Rectangle 26"/>
          <p:cNvSpPr/>
          <p:nvPr/>
        </p:nvSpPr>
        <p:spPr>
          <a:xfrm>
            <a:off x="7296120" y="3465360"/>
            <a:ext cx="1735200" cy="27972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Arial Narrow"/>
              </a:rPr>
              <a:t>Xxx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Text Box 30"/>
          <p:cNvSpPr/>
          <p:nvPr/>
        </p:nvSpPr>
        <p:spPr>
          <a:xfrm>
            <a:off x="5802480" y="3803760"/>
            <a:ext cx="1438200" cy="280800"/>
          </a:xfrm>
          <a:prstGeom prst="rect">
            <a:avLst/>
          </a:prstGeom>
          <a:solidFill>
            <a:srgbClr val="00669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Aufwand: ist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Rectangle 33"/>
          <p:cNvSpPr/>
          <p:nvPr/>
        </p:nvSpPr>
        <p:spPr>
          <a:xfrm>
            <a:off x="7297560" y="3798720"/>
            <a:ext cx="173376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Xxx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60200" y="4191120"/>
            <a:ext cx="1457640" cy="608040"/>
          </a:xfrm>
          <a:prstGeom prst="rect">
            <a:avLst/>
          </a:prstGeom>
          <a:solidFill>
            <a:srgbClr val="00669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Arbeitspaket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Arbeitspaketnummer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Rectangle 11"/>
          <p:cNvSpPr/>
          <p:nvPr/>
        </p:nvSpPr>
        <p:spPr>
          <a:xfrm>
            <a:off x="1690560" y="4191120"/>
            <a:ext cx="40150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Xxx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Text Box 25"/>
          <p:cNvSpPr/>
          <p:nvPr/>
        </p:nvSpPr>
        <p:spPr>
          <a:xfrm>
            <a:off x="5803920" y="4197240"/>
            <a:ext cx="1438200" cy="281160"/>
          </a:xfrm>
          <a:prstGeom prst="rect">
            <a:avLst/>
          </a:prstGeom>
          <a:solidFill>
            <a:srgbClr val="00669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Aufwand: pla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Rectangle 26"/>
          <p:cNvSpPr/>
          <p:nvPr/>
        </p:nvSpPr>
        <p:spPr>
          <a:xfrm>
            <a:off x="7296120" y="4199040"/>
            <a:ext cx="1735200" cy="27936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Arial Narrow"/>
              </a:rPr>
              <a:t>Xxx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Text Box 30"/>
          <p:cNvSpPr/>
          <p:nvPr/>
        </p:nvSpPr>
        <p:spPr>
          <a:xfrm>
            <a:off x="5802480" y="4537080"/>
            <a:ext cx="1438200" cy="281160"/>
          </a:xfrm>
          <a:prstGeom prst="rect">
            <a:avLst/>
          </a:prstGeom>
          <a:solidFill>
            <a:srgbClr val="00669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Aufwand: ist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Rectangle 33"/>
          <p:cNvSpPr/>
          <p:nvPr/>
        </p:nvSpPr>
        <p:spPr>
          <a:xfrm>
            <a:off x="7297560" y="4532400"/>
            <a:ext cx="173376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Xxx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Text Box 30"/>
          <p:cNvSpPr/>
          <p:nvPr/>
        </p:nvSpPr>
        <p:spPr>
          <a:xfrm>
            <a:off x="3670200" y="1965240"/>
            <a:ext cx="1438200" cy="603360"/>
          </a:xfrm>
          <a:prstGeom prst="rect">
            <a:avLst/>
          </a:prstGeom>
          <a:solidFill>
            <a:srgbClr val="00669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Prinzipielle Verfügbarkeit pro Monat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Rectangle 33"/>
          <p:cNvSpPr/>
          <p:nvPr/>
        </p:nvSpPr>
        <p:spPr>
          <a:xfrm>
            <a:off x="5165640" y="1976400"/>
            <a:ext cx="1733760" cy="5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X Tage / Mona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60200" y="2757600"/>
            <a:ext cx="1457640" cy="606240"/>
          </a:xfrm>
          <a:prstGeom prst="rect">
            <a:avLst/>
          </a:prstGeom>
          <a:solidFill>
            <a:srgbClr val="00669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Arbeitspaket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Arbeitspaketnummer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1690560" y="2757600"/>
            <a:ext cx="40150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Xxx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Text Box 25"/>
          <p:cNvSpPr/>
          <p:nvPr/>
        </p:nvSpPr>
        <p:spPr>
          <a:xfrm>
            <a:off x="5803920" y="2762280"/>
            <a:ext cx="1438200" cy="280800"/>
          </a:xfrm>
          <a:prstGeom prst="rect">
            <a:avLst/>
          </a:prstGeom>
          <a:solidFill>
            <a:srgbClr val="00669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Aufwand: pla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" name="Rectangle 26"/>
          <p:cNvSpPr/>
          <p:nvPr/>
        </p:nvSpPr>
        <p:spPr>
          <a:xfrm>
            <a:off x="7296120" y="2763720"/>
            <a:ext cx="1735200" cy="27936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Arial Narrow"/>
              </a:rPr>
              <a:t>Xxx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" name="Text Box 30"/>
          <p:cNvSpPr/>
          <p:nvPr/>
        </p:nvSpPr>
        <p:spPr>
          <a:xfrm>
            <a:off x="5802480" y="3102120"/>
            <a:ext cx="1438200" cy="280800"/>
          </a:xfrm>
          <a:prstGeom prst="rect">
            <a:avLst/>
          </a:prstGeom>
          <a:solidFill>
            <a:srgbClr val="00669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Aufwand: ist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Rectangle 33"/>
          <p:cNvSpPr/>
          <p:nvPr/>
        </p:nvSpPr>
        <p:spPr>
          <a:xfrm>
            <a:off x="7297560" y="3097080"/>
            <a:ext cx="173376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Xxx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Datumsplatzhalter 3"/>
          <p:cNvSpPr/>
          <p:nvPr/>
        </p:nvSpPr>
        <p:spPr>
          <a:xfrm>
            <a:off x="457200" y="5167440"/>
            <a:ext cx="21337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BD5E5-F9EA-4051-9F76-8AF802DEDA6F}" type="datetime">
              <a:rPr b="0" lang="de-DE" sz="1000" spc="-1" strike="noStrike">
                <a:solidFill>
                  <a:srgbClr val="00467a"/>
                </a:solidFill>
                <a:latin typeface="Arial Narrow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" name="Foliennummernplatzhalter 5"/>
          <p:cNvSpPr/>
          <p:nvPr/>
        </p:nvSpPr>
        <p:spPr>
          <a:xfrm>
            <a:off x="6553080" y="5167440"/>
            <a:ext cx="21337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09FF1-875B-4E42-B379-06FFBEEB408F}" type="slidenum">
              <a:rPr b="0" lang="de-DE" sz="1000" spc="-1" strike="noStrike">
                <a:solidFill>
                  <a:srgbClr val="00467a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9" name="Rectangle 13"/>
          <p:cNvSpPr/>
          <p:nvPr/>
        </p:nvSpPr>
        <p:spPr>
          <a:xfrm>
            <a:off x="146160" y="930240"/>
            <a:ext cx="8858160" cy="187200"/>
          </a:xfrm>
          <a:prstGeom prst="rect">
            <a:avLst/>
          </a:prstGeom>
          <a:solidFill>
            <a:srgbClr val="00669e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r" pos="6464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  <a:ea typeface="Arial Unicode MS"/>
              </a:rPr>
              <a:t>Wesentliche erreichte Ergebnisse (neuste in Fettschrift)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Rectangle 19"/>
          <p:cNvSpPr/>
          <p:nvPr/>
        </p:nvSpPr>
        <p:spPr>
          <a:xfrm>
            <a:off x="146160" y="2927520"/>
            <a:ext cx="8858160" cy="187200"/>
          </a:xfrm>
          <a:prstGeom prst="rect">
            <a:avLst/>
          </a:prstGeom>
          <a:solidFill>
            <a:srgbClr val="00669e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r" pos="6464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  <a:ea typeface="Arial Unicode MS"/>
              </a:rPr>
              <a:t>Wesentliche erwartete Ergebnisse bis zum nächsten Berichtszeitpunk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146160" y="1112760"/>
            <a:ext cx="8862840" cy="1722600"/>
          </a:xfrm>
          <a:prstGeom prst="rect">
            <a:avLst/>
          </a:prstGeom>
          <a:solidFill>
            <a:srgbClr val="ffffff"/>
          </a:solidFill>
          <a:ln w="64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72000" bIns="0" anchor="t">
            <a:noAutofit/>
          </a:bodyPr>
          <a:p>
            <a:pPr marL="177840" indent="-165240">
              <a:lnSpc>
                <a:spcPct val="85000"/>
              </a:lnSpc>
              <a:buClr>
                <a:srgbClr val="00467a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146160" y="3156120"/>
            <a:ext cx="8859600" cy="1834920"/>
          </a:xfrm>
          <a:prstGeom prst="rect">
            <a:avLst/>
          </a:prstGeom>
          <a:solidFill>
            <a:srgbClr val="ffffff"/>
          </a:solidFill>
          <a:ln w="64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72000" bIns="0" anchor="t">
            <a:noAutofit/>
          </a:bodyPr>
          <a:p>
            <a:pPr marL="177840" indent="-165240">
              <a:lnSpc>
                <a:spcPct val="85000"/>
              </a:lnSpc>
              <a:buClr>
                <a:srgbClr val="00467a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840" y="6480"/>
            <a:ext cx="854568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669e"/>
                </a:solidFill>
                <a:latin typeface="Calibri"/>
              </a:rPr>
              <a:t>Monatsbericht: Projektname</a:t>
            </a: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Datumsplatzhalter 3"/>
          <p:cNvSpPr/>
          <p:nvPr/>
        </p:nvSpPr>
        <p:spPr>
          <a:xfrm>
            <a:off x="457200" y="5062680"/>
            <a:ext cx="21337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B5A70-B752-425B-85DB-CCA31FC77753}" type="datetime">
              <a:rPr b="0" lang="de-DE" sz="1000" spc="-1" strike="noStrike">
                <a:solidFill>
                  <a:srgbClr val="00467a"/>
                </a:solidFill>
                <a:latin typeface="Arial Narrow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" name="Foliennummernplatzhalter 5"/>
          <p:cNvSpPr/>
          <p:nvPr/>
        </p:nvSpPr>
        <p:spPr>
          <a:xfrm>
            <a:off x="6553080" y="5062680"/>
            <a:ext cx="21337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FEF2D-824B-4DC7-9219-8FC5F0384C24}" type="slidenum">
              <a:rPr b="0" lang="de-DE" sz="1000" spc="-1" strike="noStrike">
                <a:solidFill>
                  <a:srgbClr val="00467a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3360" y="7920"/>
            <a:ext cx="705672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669e"/>
                </a:solidFill>
                <a:latin typeface="Calibri"/>
              </a:rPr>
              <a:t>Kritische Punkte: Projektname</a:t>
            </a: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137" name="Rectangle 21"/>
          <p:cNvSpPr/>
          <p:nvPr/>
        </p:nvSpPr>
        <p:spPr>
          <a:xfrm>
            <a:off x="179280" y="857160"/>
            <a:ext cx="3141720" cy="1204920"/>
          </a:xfrm>
          <a:prstGeom prst="rect">
            <a:avLst/>
          </a:prstGeom>
          <a:solidFill>
            <a:srgbClr val="ffffff"/>
          </a:solidFill>
          <a:ln w="64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72000" bIns="0" anchor="t">
            <a:noAutofit/>
          </a:bodyPr>
          <a:p>
            <a:pPr marL="177840" indent="-16524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Rectangle 16"/>
          <p:cNvSpPr/>
          <p:nvPr/>
        </p:nvSpPr>
        <p:spPr>
          <a:xfrm>
            <a:off x="3430440" y="857160"/>
            <a:ext cx="5527800" cy="322200"/>
          </a:xfrm>
          <a:prstGeom prst="rect">
            <a:avLst/>
          </a:prstGeom>
          <a:solidFill>
            <a:srgbClr val="00669e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r" pos="6464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  <a:ea typeface="Arial Unicode MS"/>
              </a:rPr>
              <a:t>Gibt es kritische Punkte / Schwierigkeiten oder allg. Situationen, die Ihren Fortschritt behindern?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90000"/>
              </a:lnSpc>
              <a:tabLst>
                <a:tab algn="l" pos="0"/>
                <a:tab algn="r" pos="6464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  <a:ea typeface="Arial Unicode MS"/>
              </a:rPr>
              <a:t>Worauf hat das Auswirkungen? Auf das Ergebnis, auf Termine oder steht Ihnen zu wenig Zeit zur Verfügung?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" name="Rectangle 59"/>
          <p:cNvSpPr/>
          <p:nvPr/>
        </p:nvSpPr>
        <p:spPr>
          <a:xfrm>
            <a:off x="3430440" y="1214280"/>
            <a:ext cx="5534280" cy="847800"/>
          </a:xfrm>
          <a:prstGeom prst="rect">
            <a:avLst/>
          </a:prstGeom>
          <a:solidFill>
            <a:srgbClr val="ffffff"/>
          </a:solidFill>
          <a:ln w="64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 marL="88920" indent="-88920">
              <a:lnSpc>
                <a:spcPct val="85000"/>
              </a:lnSpc>
              <a:buClr>
                <a:srgbClr val="00467a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Gesamtsituation, z. B. „grün“, weil…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  <a:p>
            <a:pPr lvl="1" marL="357120" indent="-88920">
              <a:lnSpc>
                <a:spcPct val="85000"/>
              </a:lnSpc>
              <a:buClr>
                <a:srgbClr val="00467a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Inhalt „grün“, weil…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lvl="1" marL="357120" indent="-88920">
              <a:lnSpc>
                <a:spcPct val="85000"/>
              </a:lnSpc>
              <a:buClr>
                <a:srgbClr val="00467a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Zeit „grün“, weil…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lvl="1" marL="357120" indent="-88920">
              <a:lnSpc>
                <a:spcPct val="85000"/>
              </a:lnSpc>
              <a:buClr>
                <a:srgbClr val="00467a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Ressourcen „rot“, weil…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77840" y="2152800"/>
          <a:ext cx="8786880" cy="1373040"/>
        </p:xfrm>
        <a:graphic>
          <a:graphicData uri="http://schemas.openxmlformats.org/drawingml/2006/table">
            <a:tbl>
              <a:tblPr/>
              <a:tblGrid>
                <a:gridCol w="147600"/>
                <a:gridCol w="716040"/>
                <a:gridCol w="4149720"/>
                <a:gridCol w="2720880"/>
                <a:gridCol w="453960"/>
                <a:gridCol w="598680"/>
              </a:tblGrid>
              <a:tr h="309960"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Risik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00669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Auswirku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00669e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Maßnah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00669e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Verant-wortli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00669e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Status Maßnah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00669e"/>
                    </a:solidFill>
                  </a:tcPr>
                </a:tc>
              </a:tr>
              <a:tr h="25740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1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…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…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…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560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2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…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416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3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664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4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1" name="Oval 57"/>
          <p:cNvSpPr/>
          <p:nvPr/>
        </p:nvSpPr>
        <p:spPr>
          <a:xfrm rot="10800000">
            <a:off x="1398240" y="5137200"/>
            <a:ext cx="150840" cy="1569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Oval 24"/>
          <p:cNvSpPr/>
          <p:nvPr/>
        </p:nvSpPr>
        <p:spPr>
          <a:xfrm rot="10800000">
            <a:off x="1639440" y="5154120"/>
            <a:ext cx="150840" cy="15732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Oval 24"/>
          <p:cNvSpPr/>
          <p:nvPr/>
        </p:nvSpPr>
        <p:spPr>
          <a:xfrm rot="10800000">
            <a:off x="1874520" y="5156280"/>
            <a:ext cx="150840" cy="1569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77840" y="3638520"/>
          <a:ext cx="8786880" cy="1335240"/>
        </p:xfrm>
        <a:graphic>
          <a:graphicData uri="http://schemas.openxmlformats.org/drawingml/2006/table">
            <a:tbl>
              <a:tblPr/>
              <a:tblGrid>
                <a:gridCol w="147600"/>
                <a:gridCol w="716040"/>
                <a:gridCol w="4149720"/>
                <a:gridCol w="2720880"/>
                <a:gridCol w="453960"/>
                <a:gridCol w="598680"/>
              </a:tblGrid>
              <a:tr h="321480"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Entscheidungs-bedar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00669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Sit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00669e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Maßnah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00669e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Verant-wortli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00669e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Status Maßnah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00669e"/>
                    </a:solidFill>
                  </a:tcPr>
                </a:tc>
              </a:tr>
              <a:tr h="24120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1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…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…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…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904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2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…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796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3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664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4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5" name="Rectangle 22"/>
          <p:cNvSpPr/>
          <p:nvPr/>
        </p:nvSpPr>
        <p:spPr>
          <a:xfrm>
            <a:off x="279360" y="1001880"/>
            <a:ext cx="25876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1257480"/>
                <a:tab algn="l" pos="1704960"/>
                <a:tab algn="l" pos="1795320"/>
                <a:tab algn="l" pos="2243160"/>
                <a:tab algn="r" pos="6464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     </a:t>
            </a:r>
            <a:r>
              <a:rPr b="0" lang="de-DE" sz="10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Gesamt          Ergebnis</a:t>
            </a:r>
            <a:r>
              <a:rPr b="0" lang="de-DE" sz="10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    Termine   Ressourcen   Koste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AutoShape 23"/>
          <p:cNvSpPr/>
          <p:nvPr/>
        </p:nvSpPr>
        <p:spPr>
          <a:xfrm rot="10800000">
            <a:off x="488880" y="1179000"/>
            <a:ext cx="216000" cy="638280"/>
          </a:xfrm>
          <a:custGeom>
            <a:avLst/>
            <a:gdLst>
              <a:gd name="textAreaLeft" fmla="*/ 4680 w 216000"/>
              <a:gd name="textAreaRight" fmla="*/ 211320 w 216000"/>
              <a:gd name="textAreaTop" fmla="*/ 4680 h 638280"/>
              <a:gd name="textAreaBottom" fmla="*/ 633600 h 638280"/>
            </a:gdLst>
            <a:ahLst/>
            <a:rect l="textAreaLeft" t="textAreaTop" r="textAreaRight" b="textAreaBottom"/>
            <a:pathLst>
              <a:path w="21600" h="63758">
                <a:moveTo>
                  <a:pt x="1631" y="0"/>
                </a:moveTo>
                <a:arcTo wR="1631" hR="1631" stAng="16200000" swAng="-5400000"/>
                <a:lnTo>
                  <a:pt x="0" y="62127"/>
                </a:lnTo>
                <a:arcTo wR="1631" hR="1631" stAng="10800000" swAng="-5400000"/>
                <a:lnTo>
                  <a:pt x="19969" y="63758"/>
                </a:lnTo>
                <a:arcTo wR="1631" hR="1631" stAng="5400000" swAng="-5400000"/>
                <a:lnTo>
                  <a:pt x="21600" y="1631"/>
                </a:lnTo>
                <a:arcTo wR="1631" hR="1631" stAng="0" swAng="-5400000"/>
                <a:close/>
              </a:path>
            </a:pathLst>
          </a:custGeom>
          <a:solidFill>
            <a:srgbClr val="808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" name="Oval 24"/>
          <p:cNvSpPr/>
          <p:nvPr/>
        </p:nvSpPr>
        <p:spPr>
          <a:xfrm rot="10800000">
            <a:off x="520200" y="1208160"/>
            <a:ext cx="150840" cy="1569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AutoShape 23"/>
          <p:cNvSpPr/>
          <p:nvPr/>
        </p:nvSpPr>
        <p:spPr>
          <a:xfrm rot="10800000">
            <a:off x="1164960" y="1179000"/>
            <a:ext cx="215640" cy="638280"/>
          </a:xfrm>
          <a:custGeom>
            <a:avLst/>
            <a:gdLst>
              <a:gd name="textAreaLeft" fmla="*/ 4680 w 215640"/>
              <a:gd name="textAreaRight" fmla="*/ 210960 w 215640"/>
              <a:gd name="textAreaTop" fmla="*/ 4680 h 638280"/>
              <a:gd name="textAreaBottom" fmla="*/ 633600 h 638280"/>
            </a:gdLst>
            <a:ahLst/>
            <a:rect l="textAreaLeft" t="textAreaTop" r="textAreaRight" b="textAreaBottom"/>
            <a:pathLst>
              <a:path w="21600" h="63864">
                <a:moveTo>
                  <a:pt x="1631" y="0"/>
                </a:moveTo>
                <a:arcTo wR="1631" hR="1631" stAng="16200000" swAng="-5400000"/>
                <a:lnTo>
                  <a:pt x="0" y="62233"/>
                </a:lnTo>
                <a:arcTo wR="1631" hR="1631" stAng="10800000" swAng="-5400000"/>
                <a:lnTo>
                  <a:pt x="19969" y="63864"/>
                </a:lnTo>
                <a:arcTo wR="1631" hR="1631" stAng="5400000" swAng="-5400000"/>
                <a:lnTo>
                  <a:pt x="21600" y="1631"/>
                </a:lnTo>
                <a:arcTo wR="1631" hR="1631" stAng="0" swAng="-5400000"/>
                <a:close/>
              </a:path>
            </a:pathLst>
          </a:custGeom>
          <a:solidFill>
            <a:srgbClr val="808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" name="Oval 24"/>
          <p:cNvSpPr/>
          <p:nvPr/>
        </p:nvSpPr>
        <p:spPr>
          <a:xfrm rot="10800000">
            <a:off x="1196640" y="1208160"/>
            <a:ext cx="150840" cy="1569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" name="AutoShape 23"/>
          <p:cNvSpPr/>
          <p:nvPr/>
        </p:nvSpPr>
        <p:spPr>
          <a:xfrm rot="10800000">
            <a:off x="1717560" y="1179000"/>
            <a:ext cx="216000" cy="638280"/>
          </a:xfrm>
          <a:custGeom>
            <a:avLst/>
            <a:gdLst>
              <a:gd name="textAreaLeft" fmla="*/ 4680 w 216000"/>
              <a:gd name="textAreaRight" fmla="*/ 211320 w 216000"/>
              <a:gd name="textAreaTop" fmla="*/ 4680 h 638280"/>
              <a:gd name="textAreaBottom" fmla="*/ 633600 h 638280"/>
            </a:gdLst>
            <a:ahLst/>
            <a:rect l="textAreaLeft" t="textAreaTop" r="textAreaRight" b="textAreaBottom"/>
            <a:pathLst>
              <a:path w="21600" h="63758">
                <a:moveTo>
                  <a:pt x="1631" y="0"/>
                </a:moveTo>
                <a:arcTo wR="1631" hR="1631" stAng="16200000" swAng="-5400000"/>
                <a:lnTo>
                  <a:pt x="0" y="62127"/>
                </a:lnTo>
                <a:arcTo wR="1631" hR="1631" stAng="10800000" swAng="-5400000"/>
                <a:lnTo>
                  <a:pt x="19969" y="63758"/>
                </a:lnTo>
                <a:arcTo wR="1631" hR="1631" stAng="5400000" swAng="-5400000"/>
                <a:lnTo>
                  <a:pt x="21600" y="1631"/>
                </a:lnTo>
                <a:arcTo wR="1631" hR="1631" stAng="0" swAng="-5400000"/>
                <a:close/>
              </a:path>
            </a:pathLst>
          </a:custGeom>
          <a:solidFill>
            <a:srgbClr val="808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" name="Oval 24"/>
          <p:cNvSpPr/>
          <p:nvPr/>
        </p:nvSpPr>
        <p:spPr>
          <a:xfrm rot="10800000">
            <a:off x="1749600" y="1208160"/>
            <a:ext cx="150480" cy="1569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2" name="Oval 56"/>
          <p:cNvSpPr/>
          <p:nvPr/>
        </p:nvSpPr>
        <p:spPr>
          <a:xfrm rot="10800000">
            <a:off x="1749600" y="1406160"/>
            <a:ext cx="150480" cy="15732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" name="Oval 45"/>
          <p:cNvSpPr/>
          <p:nvPr/>
        </p:nvSpPr>
        <p:spPr>
          <a:xfrm rot="10800000">
            <a:off x="2317320" y="1596600"/>
            <a:ext cx="150840" cy="15732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" name="Oval 51"/>
          <p:cNvSpPr/>
          <p:nvPr/>
        </p:nvSpPr>
        <p:spPr>
          <a:xfrm rot="10800000">
            <a:off x="2312640" y="1402920"/>
            <a:ext cx="150840" cy="15732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" name="Oval 46"/>
          <p:cNvSpPr/>
          <p:nvPr/>
        </p:nvSpPr>
        <p:spPr>
          <a:xfrm rot="10800000">
            <a:off x="2293560" y="1204560"/>
            <a:ext cx="150840" cy="15732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" name="Oval 51"/>
          <p:cNvSpPr/>
          <p:nvPr/>
        </p:nvSpPr>
        <p:spPr>
          <a:xfrm rot="10800000">
            <a:off x="2293560" y="1402920"/>
            <a:ext cx="150840" cy="15732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" name="AutoShape 23"/>
          <p:cNvSpPr/>
          <p:nvPr/>
        </p:nvSpPr>
        <p:spPr>
          <a:xfrm rot="10800000">
            <a:off x="2251080" y="1179000"/>
            <a:ext cx="216000" cy="638280"/>
          </a:xfrm>
          <a:custGeom>
            <a:avLst/>
            <a:gdLst>
              <a:gd name="textAreaLeft" fmla="*/ 4680 w 216000"/>
              <a:gd name="textAreaRight" fmla="*/ 211320 w 216000"/>
              <a:gd name="textAreaTop" fmla="*/ 4680 h 638280"/>
              <a:gd name="textAreaBottom" fmla="*/ 633600 h 638280"/>
            </a:gdLst>
            <a:ahLst/>
            <a:rect l="textAreaLeft" t="textAreaTop" r="textAreaRight" b="textAreaBottom"/>
            <a:pathLst>
              <a:path w="21600" h="63758">
                <a:moveTo>
                  <a:pt x="1631" y="0"/>
                </a:moveTo>
                <a:arcTo wR="1631" hR="1631" stAng="16200000" swAng="-5400000"/>
                <a:lnTo>
                  <a:pt x="0" y="62127"/>
                </a:lnTo>
                <a:arcTo wR="1631" hR="1631" stAng="10800000" swAng="-5400000"/>
                <a:lnTo>
                  <a:pt x="19969" y="63758"/>
                </a:lnTo>
                <a:arcTo wR="1631" hR="1631" stAng="5400000" swAng="-5400000"/>
                <a:lnTo>
                  <a:pt x="21600" y="1631"/>
                </a:lnTo>
                <a:arcTo wR="1631" hR="1631" stAng="0" swAng="-5400000"/>
                <a:close/>
              </a:path>
            </a:pathLst>
          </a:custGeom>
          <a:solidFill>
            <a:srgbClr val="808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" name="Oval 57"/>
          <p:cNvSpPr/>
          <p:nvPr/>
        </p:nvSpPr>
        <p:spPr>
          <a:xfrm rot="10800000">
            <a:off x="2282400" y="1625760"/>
            <a:ext cx="150840" cy="1569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" name="Oval 56"/>
          <p:cNvSpPr/>
          <p:nvPr/>
        </p:nvSpPr>
        <p:spPr>
          <a:xfrm rot="10800000">
            <a:off x="523440" y="1614600"/>
            <a:ext cx="150840" cy="1569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" name="Oval 57"/>
          <p:cNvSpPr/>
          <p:nvPr/>
        </p:nvSpPr>
        <p:spPr>
          <a:xfrm rot="10800000">
            <a:off x="523440" y="1406160"/>
            <a:ext cx="150840" cy="15732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" name="Oval 57"/>
          <p:cNvSpPr/>
          <p:nvPr/>
        </p:nvSpPr>
        <p:spPr>
          <a:xfrm rot="10800000">
            <a:off x="1203480" y="1422000"/>
            <a:ext cx="150480" cy="1587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" name="Oval 24"/>
          <p:cNvSpPr/>
          <p:nvPr/>
        </p:nvSpPr>
        <p:spPr>
          <a:xfrm rot="10800000">
            <a:off x="518760" y="1208160"/>
            <a:ext cx="150840" cy="1569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" name="TextBox 77"/>
          <p:cNvSpPr/>
          <p:nvPr/>
        </p:nvSpPr>
        <p:spPr>
          <a:xfrm>
            <a:off x="652320" y="1352520"/>
            <a:ext cx="247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=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" name="Oval 57"/>
          <p:cNvSpPr/>
          <p:nvPr/>
        </p:nvSpPr>
        <p:spPr>
          <a:xfrm rot="10800000">
            <a:off x="1196640" y="1620360"/>
            <a:ext cx="150840" cy="1587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5" name="Oval 24"/>
          <p:cNvSpPr/>
          <p:nvPr/>
        </p:nvSpPr>
        <p:spPr>
          <a:xfrm rot="10800000">
            <a:off x="1747440" y="1615680"/>
            <a:ext cx="150840" cy="15732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" name="Oval 56"/>
          <p:cNvSpPr/>
          <p:nvPr/>
        </p:nvSpPr>
        <p:spPr>
          <a:xfrm rot="10800000">
            <a:off x="1747440" y="1617840"/>
            <a:ext cx="150840" cy="1569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" name="AutoShape 23"/>
          <p:cNvSpPr/>
          <p:nvPr/>
        </p:nvSpPr>
        <p:spPr>
          <a:xfrm rot="10800000">
            <a:off x="2786040" y="1182240"/>
            <a:ext cx="216000" cy="638280"/>
          </a:xfrm>
          <a:custGeom>
            <a:avLst/>
            <a:gdLst>
              <a:gd name="textAreaLeft" fmla="*/ 4680 w 216000"/>
              <a:gd name="textAreaRight" fmla="*/ 211320 w 216000"/>
              <a:gd name="textAreaTop" fmla="*/ 4680 h 638280"/>
              <a:gd name="textAreaBottom" fmla="*/ 633600 h 638280"/>
            </a:gdLst>
            <a:ahLst/>
            <a:rect l="textAreaLeft" t="textAreaTop" r="textAreaRight" b="textAreaBottom"/>
            <a:pathLst>
              <a:path w="21600" h="63758">
                <a:moveTo>
                  <a:pt x="1631" y="0"/>
                </a:moveTo>
                <a:arcTo wR="1631" hR="1631" stAng="16200000" swAng="-5400000"/>
                <a:lnTo>
                  <a:pt x="0" y="62127"/>
                </a:lnTo>
                <a:arcTo wR="1631" hR="1631" stAng="10800000" swAng="-5400000"/>
                <a:lnTo>
                  <a:pt x="19969" y="63758"/>
                </a:lnTo>
                <a:arcTo wR="1631" hR="1631" stAng="5400000" swAng="-5400000"/>
                <a:lnTo>
                  <a:pt x="21600" y="1631"/>
                </a:lnTo>
                <a:arcTo wR="1631" hR="1631" stAng="0" swAng="-5400000"/>
                <a:close/>
              </a:path>
            </a:pathLst>
          </a:custGeom>
          <a:solidFill>
            <a:srgbClr val="808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" name="Oval 57"/>
          <p:cNvSpPr/>
          <p:nvPr/>
        </p:nvSpPr>
        <p:spPr>
          <a:xfrm rot="10800000">
            <a:off x="2817360" y="1628280"/>
            <a:ext cx="150840" cy="15732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" name="Oval 57"/>
          <p:cNvSpPr/>
          <p:nvPr/>
        </p:nvSpPr>
        <p:spPr>
          <a:xfrm rot="10800000">
            <a:off x="2815920" y="1415520"/>
            <a:ext cx="150840" cy="15732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0" name="Oval 24"/>
          <p:cNvSpPr/>
          <p:nvPr/>
        </p:nvSpPr>
        <p:spPr>
          <a:xfrm rot="10800000">
            <a:off x="2817360" y="1623600"/>
            <a:ext cx="150840" cy="15732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" name="Oval 57"/>
          <p:cNvSpPr/>
          <p:nvPr/>
        </p:nvSpPr>
        <p:spPr>
          <a:xfrm rot="10800000">
            <a:off x="2279160" y="1213920"/>
            <a:ext cx="150840" cy="15732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" name="Oval 57"/>
          <p:cNvSpPr/>
          <p:nvPr/>
        </p:nvSpPr>
        <p:spPr>
          <a:xfrm rot="10800000">
            <a:off x="2279160" y="1405080"/>
            <a:ext cx="150840" cy="1569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3" name="Oval 24"/>
          <p:cNvSpPr/>
          <p:nvPr/>
        </p:nvSpPr>
        <p:spPr>
          <a:xfrm rot="10800000">
            <a:off x="1750680" y="1614600"/>
            <a:ext cx="150840" cy="15696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4" name="Oval 57"/>
          <p:cNvSpPr/>
          <p:nvPr/>
        </p:nvSpPr>
        <p:spPr>
          <a:xfrm rot="10800000">
            <a:off x="2815920" y="1230480"/>
            <a:ext cx="150840" cy="1569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" name="Oval 57"/>
          <p:cNvSpPr/>
          <p:nvPr/>
        </p:nvSpPr>
        <p:spPr>
          <a:xfrm rot="10800000">
            <a:off x="1196640" y="1622520"/>
            <a:ext cx="150840" cy="15696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" name="Oval 57"/>
          <p:cNvSpPr/>
          <p:nvPr/>
        </p:nvSpPr>
        <p:spPr>
          <a:xfrm rot="10800000">
            <a:off x="522000" y="1614600"/>
            <a:ext cx="150840" cy="15696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3T18:06:14Z</dcterms:created>
  <dc:creator/>
  <dc:description/>
  <dc:language>en-US</dc:language>
  <cp:lastModifiedBy>Frick, Andreas</cp:lastModifiedBy>
  <dcterms:modified xsi:type="dcterms:W3CDTF">2023-06-05T18:11:28Z</dcterms:modified>
  <cp:revision>502</cp:revision>
  <dc:subject/>
  <dc:title>Monatsbericht: Projektname</dc:title>
</cp:coreProperties>
</file>