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3705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5C8-B70C-4126-AD22-F1645AF5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283-9F8A-45D0-AB38-42547EC8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505-347F-43D0-876F-B39114DB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DE2-9B83-4D8C-9CC9-418461AF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10920" y="4680"/>
            <a:ext cx="705636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B090-DFDC-4192-BF1C-E2EEBB18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C19-F8BE-4757-9393-0EF460BF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E8C-3BB5-4E87-BA8C-8B1B635B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FB32-5C01-44C5-B23A-66331284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0920" y="4680"/>
            <a:ext cx="705636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7040-D099-499D-96C6-CA1C6E10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C16-A264-4704-8641-3AC111E0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037-EE9A-40EB-A5F7-9BB03D4C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41D-833F-4E2F-AB27-9769D496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50000">
              <a:srgbClr val="ebf3ff"/>
            </a:gs>
            <a:gs pos="100000">
              <a:srgbClr val="d2d2d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5092560"/>
            <a:ext cx="9147240" cy="27972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ebf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-1440" y="0"/>
            <a:ext cx="914076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▫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7022-CD9E-496A-86B3-FDF3603BAF12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5167440"/>
            <a:ext cx="289584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467a"/>
                </a:solidFill>
                <a:latin typeface="Arial Narrow"/>
              </a:rPr>
              <a:t>LUNAR GmbH 2010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C8FB-3938-48F8-90F3-F90E836EF3D0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Line 15"/>
          <p:cNvSpPr/>
          <p:nvPr/>
        </p:nvSpPr>
        <p:spPr>
          <a:xfrm>
            <a:off x="0" y="771480"/>
            <a:ext cx="9144000" cy="0"/>
          </a:xfrm>
          <a:prstGeom prst="line">
            <a:avLst/>
          </a:prstGeom>
          <a:ln w="6480">
            <a:solidFill>
              <a:srgbClr val="004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Line 17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Line 15"/>
          <p:cNvSpPr/>
          <p:nvPr/>
        </p:nvSpPr>
        <p:spPr>
          <a:xfrm>
            <a:off x="0" y="5091120"/>
            <a:ext cx="9144000" cy="0"/>
          </a:xfrm>
          <a:prstGeom prst="line">
            <a:avLst/>
          </a:prstGeom>
          <a:ln w="6480">
            <a:solidFill>
              <a:srgbClr val="004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a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pic>
        <p:nvPicPr>
          <p:cNvPr id="10" name="Grafik 12" descr=""/>
          <p:cNvPicPr/>
          <p:nvPr/>
        </p:nvPicPr>
        <p:blipFill>
          <a:blip r:embed="rId2"/>
          <a:stretch/>
        </p:blipFill>
        <p:spPr>
          <a:xfrm>
            <a:off x="7808760" y="109440"/>
            <a:ext cx="119880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50000">
              <a:srgbClr val="ebf3ff"/>
            </a:gs>
            <a:gs pos="100000">
              <a:srgbClr val="d2d2d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5"/>
          <p:cNvSpPr/>
          <p:nvPr/>
        </p:nvSpPr>
        <p:spPr>
          <a:xfrm>
            <a:off x="0" y="1139760"/>
            <a:ext cx="9144000" cy="3351240"/>
          </a:xfrm>
          <a:prstGeom prst="rect">
            <a:avLst/>
          </a:prstGeom>
          <a:solidFill>
            <a:srgbClr val="eb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Rectangle 54"/>
          <p:cNvSpPr/>
          <p:nvPr/>
        </p:nvSpPr>
        <p:spPr>
          <a:xfrm>
            <a:off x="0" y="4470480"/>
            <a:ext cx="9144000" cy="7308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ebf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" name="Grafik 15" descr=""/>
          <p:cNvPicPr/>
          <p:nvPr/>
        </p:nvPicPr>
        <p:blipFill>
          <a:blip r:embed="rId2"/>
          <a:stretch/>
        </p:blipFill>
        <p:spPr>
          <a:xfrm>
            <a:off x="7808760" y="109440"/>
            <a:ext cx="1198800" cy="541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▫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1092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a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umsplatzhalter 3"/>
          <p:cNvSpPr/>
          <p:nvPr/>
        </p:nvSpPr>
        <p:spPr>
          <a:xfrm>
            <a:off x="457200" y="5127480"/>
            <a:ext cx="2133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3709-1776-4375-8E79-7B88747CE09E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Foliennummernplatzhalter 5"/>
          <p:cNvSpPr/>
          <p:nvPr/>
        </p:nvSpPr>
        <p:spPr>
          <a:xfrm>
            <a:off x="6553080" y="5127480"/>
            <a:ext cx="2133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13C8-4FE9-4529-8FC5-B6355115087D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960" y="12240"/>
            <a:ext cx="854388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669e"/>
                </a:solidFill>
                <a:latin typeface="Calibri"/>
              </a:rPr>
              <a:t>Monatsbericht: Projektname </a:t>
            </a: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5240" y="1123920"/>
            <a:ext cx="145728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uftraggeb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2000" y="2344680"/>
            <a:ext cx="1457280" cy="389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ziele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5520" y="2801880"/>
            <a:ext cx="1462320" cy="143532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schritte/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Meilensteine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690560" y="2340000"/>
            <a:ext cx="4753080" cy="392040"/>
          </a:xfrm>
          <a:prstGeom prst="rect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Hauptzielsetzung aus Projektauftra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690560" y="2820960"/>
            <a:ext cx="4753080" cy="14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Phasen aufführ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90360" indent="-903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eilensteine aufführ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693800" y="1125360"/>
            <a:ext cx="1873440" cy="27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60200" y="1827360"/>
            <a:ext cx="1457640" cy="45072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Beteiligte Abteilungen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690560" y="1827360"/>
            <a:ext cx="7345440" cy="452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, Y, Z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63440" y="1467000"/>
            <a:ext cx="1457280" cy="30132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leit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1692360" y="1468440"/>
            <a:ext cx="1873080" cy="2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659040" y="804960"/>
            <a:ext cx="105912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Starttermin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4776840" y="806400"/>
            <a:ext cx="92880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.yy.zz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3670200" y="1128600"/>
            <a:ext cx="1047960" cy="28908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Umsetzung bis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4775040" y="1130400"/>
            <a:ext cx="935280" cy="280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.yy.zz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5797440" y="811080"/>
            <a:ext cx="143856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Bearbeitungsstatus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Rectangle 26"/>
          <p:cNvSpPr/>
          <p:nvPr/>
        </p:nvSpPr>
        <p:spPr>
          <a:xfrm>
            <a:off x="7297560" y="811080"/>
            <a:ext cx="100836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 Narrow"/>
              </a:rPr>
              <a:t>In Arbe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8331840" y="828720"/>
            <a:ext cx="81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i="1" lang="de-DE" sz="500" spc="-1" strike="noStrike">
                <a:solidFill>
                  <a:srgbClr val="000000"/>
                </a:solidFill>
                <a:latin typeface="Arial"/>
              </a:rPr>
              <a:t>offen, in Arbeit, </a:t>
            </a:r>
            <a:endParaRPr b="0" lang="en-US" sz="5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i="1" lang="de-DE" sz="500" spc="-1" strike="noStrike">
                <a:solidFill>
                  <a:srgbClr val="000000"/>
                </a:solidFill>
                <a:latin typeface="Arial"/>
              </a:rPr>
              <a:t>zurückgestellt, erledigt</a:t>
            </a:r>
            <a:endParaRPr b="0" lang="en-US" sz="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1693800" y="808200"/>
            <a:ext cx="187344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x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5803920" y="1133640"/>
            <a:ext cx="143820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status gesam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Rectangle 33"/>
          <p:cNvSpPr/>
          <p:nvPr/>
        </p:nvSpPr>
        <p:spPr>
          <a:xfrm>
            <a:off x="7299360" y="1144440"/>
            <a:ext cx="1179360" cy="6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Im Plan, bis heute keine größeren Schwierigkeit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Text Box 35"/>
          <p:cNvSpPr/>
          <p:nvPr/>
        </p:nvSpPr>
        <p:spPr>
          <a:xfrm>
            <a:off x="165240" y="806400"/>
            <a:ext cx="145728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numm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Text Box 63"/>
          <p:cNvSpPr/>
          <p:nvPr/>
        </p:nvSpPr>
        <p:spPr>
          <a:xfrm>
            <a:off x="155520" y="4286160"/>
            <a:ext cx="1462320" cy="6876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bhängigkeit zu ander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en / Aufgaben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Rectangle 64"/>
          <p:cNvSpPr/>
          <p:nvPr/>
        </p:nvSpPr>
        <p:spPr>
          <a:xfrm>
            <a:off x="1690560" y="4281480"/>
            <a:ext cx="7342200" cy="6872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XX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Text Box 65"/>
          <p:cNvSpPr/>
          <p:nvPr/>
        </p:nvSpPr>
        <p:spPr>
          <a:xfrm>
            <a:off x="3670200" y="1473120"/>
            <a:ext cx="1047960" cy="28908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Berichtszeitra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Rectangle 66"/>
          <p:cNvSpPr/>
          <p:nvPr/>
        </p:nvSpPr>
        <p:spPr>
          <a:xfrm>
            <a:off x="4773600" y="1473120"/>
            <a:ext cx="2463840" cy="281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Januar 20xx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507000" y="2654280"/>
            <a:ext cx="1233720" cy="158292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Intern:</a:t>
            </a:r>
            <a:br>
              <a:rPr sz="1000"/>
            </a:b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- Berichtszeitraum:</a:t>
            </a:r>
            <a:br>
              <a:rPr sz="1000"/>
            </a:b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- Gesam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Extern:</a:t>
            </a:r>
            <a:br>
              <a:rPr sz="1000"/>
            </a:b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- Berichtszeitra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- Gesam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Sachkosten:</a:t>
            </a:r>
            <a:br>
              <a:rPr sz="1000"/>
            </a:b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- Berichtszeitra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- Gesamt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791480" y="2654280"/>
            <a:ext cx="612720" cy="15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- 18 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- 87 P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-   6 P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- 30 P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6 T €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40 T €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6507000" y="2344680"/>
            <a:ext cx="252576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Arbeitsaufwände :                  IST             PLA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8423280" y="2654280"/>
            <a:ext cx="612720" cy="15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- 220 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- 250 P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800 T€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20" name="Group 32"/>
          <p:cNvGrpSpPr/>
          <p:nvPr/>
        </p:nvGrpSpPr>
        <p:grpSpPr>
          <a:xfrm>
            <a:off x="8694720" y="1131840"/>
            <a:ext cx="216000" cy="666720"/>
            <a:chOff x="8694720" y="1131840"/>
            <a:chExt cx="216000" cy="666720"/>
          </a:xfrm>
        </p:grpSpPr>
        <p:sp>
          <p:nvSpPr>
            <p:cNvPr id="121" name="AutoShape 23"/>
            <p:cNvSpPr/>
            <p:nvPr/>
          </p:nvSpPr>
          <p:spPr>
            <a:xfrm rot="10800000">
              <a:off x="8694720" y="1131840"/>
              <a:ext cx="216000" cy="666720"/>
            </a:xfrm>
            <a:custGeom>
              <a:avLst/>
              <a:gdLst>
                <a:gd name="textAreaLeft" fmla="*/ 4680 w 216000"/>
                <a:gd name="textAreaRight" fmla="*/ 211320 w 216000"/>
                <a:gd name="textAreaTop" fmla="*/ 4680 h 666720"/>
                <a:gd name="textAreaBottom" fmla="*/ 662040 h 666720"/>
              </a:gdLst>
              <a:ahLst/>
              <a:rect l="textAreaLeft" t="textAreaTop" r="textAreaRight" b="textAreaBottom"/>
              <a:pathLst>
                <a:path w="21600" h="66597">
                  <a:moveTo>
                    <a:pt x="1631" y="0"/>
                  </a:moveTo>
                  <a:arcTo wR="1631" hR="1631" stAng="16200000" swAng="-5400000"/>
                  <a:lnTo>
                    <a:pt x="0" y="64966"/>
                  </a:lnTo>
                  <a:arcTo wR="1631" hR="1631" stAng="10800000" swAng="-5400000"/>
                  <a:lnTo>
                    <a:pt x="19969" y="66597"/>
                  </a:lnTo>
                  <a:arcTo wR="1631" hR="1631" stAng="5400000" swAng="-5400000"/>
                  <a:lnTo>
                    <a:pt x="21600" y="1631"/>
                  </a:lnTo>
                  <a:arcTo wR="1631" hR="1631" stAng="0" swAng="-5400000"/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22" name="Group 31"/>
            <p:cNvGrpSpPr/>
            <p:nvPr/>
          </p:nvGrpSpPr>
          <p:grpSpPr>
            <a:xfrm>
              <a:off x="8724600" y="1161360"/>
              <a:ext cx="155520" cy="589320"/>
              <a:chOff x="8724600" y="1161360"/>
              <a:chExt cx="155520" cy="589320"/>
            </a:xfrm>
          </p:grpSpPr>
          <p:sp>
            <p:nvSpPr>
              <p:cNvPr id="123" name="Oval 24"/>
              <p:cNvSpPr/>
              <p:nvPr/>
            </p:nvSpPr>
            <p:spPr>
              <a:xfrm rot="10800000">
                <a:off x="8726040" y="1161360"/>
                <a:ext cx="150840" cy="1652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" name="Oval 56"/>
              <p:cNvSpPr/>
              <p:nvPr/>
            </p:nvSpPr>
            <p:spPr>
              <a:xfrm rot="10800000">
                <a:off x="8729280" y="1587240"/>
                <a:ext cx="150840" cy="1634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" name="Oval 57"/>
              <p:cNvSpPr/>
              <p:nvPr/>
            </p:nvSpPr>
            <p:spPr>
              <a:xfrm rot="10800000">
                <a:off x="8729280" y="1369800"/>
                <a:ext cx="150840" cy="1634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" name="Oval 24"/>
              <p:cNvSpPr/>
              <p:nvPr/>
            </p:nvSpPr>
            <p:spPr>
              <a:xfrm rot="10800000">
                <a:off x="8724600" y="1161360"/>
                <a:ext cx="150840" cy="1652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27" name="Oval 56"/>
          <p:cNvSpPr/>
          <p:nvPr/>
        </p:nvSpPr>
        <p:spPr>
          <a:xfrm rot="10800000">
            <a:off x="8729280" y="1587600"/>
            <a:ext cx="150840" cy="163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Oval 24"/>
          <p:cNvSpPr/>
          <p:nvPr/>
        </p:nvSpPr>
        <p:spPr>
          <a:xfrm rot="10800000">
            <a:off x="8729280" y="1593360"/>
            <a:ext cx="150840" cy="1573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umsplatzhalter 3"/>
          <p:cNvSpPr/>
          <p:nvPr/>
        </p:nvSpPr>
        <p:spPr>
          <a:xfrm>
            <a:off x="457200" y="5127480"/>
            <a:ext cx="2133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50F6-0AB0-4821-8C1F-1E76143C72BA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Foliennummernplatzhalter 5"/>
          <p:cNvSpPr/>
          <p:nvPr/>
        </p:nvSpPr>
        <p:spPr>
          <a:xfrm>
            <a:off x="6553080" y="5127480"/>
            <a:ext cx="2133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3E7C-DB63-4904-8B88-B14E0C9045ED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146160" y="930240"/>
            <a:ext cx="8858160" cy="18720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Wesentliche erreichte Ergebnisse (neuste in Fettschrift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146160" y="3459240"/>
            <a:ext cx="8858160" cy="18720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Wesentliche erwartete Ergebnisse bis zum nächsten Berichtszeitpunk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46160" y="1146240"/>
            <a:ext cx="8862840" cy="2263680"/>
          </a:xfrm>
          <a:prstGeom prst="rect">
            <a:avLst/>
          </a:prstGeom>
          <a:solidFill>
            <a:srgbClr val="ffffff"/>
          </a:solidFill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72000" bIns="0" anchor="t">
            <a:noAutofit/>
          </a:bodyPr>
          <a:p>
            <a:pPr marL="177840" indent="-16524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Xxxx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46160" y="3695760"/>
            <a:ext cx="8859600" cy="1295280"/>
          </a:xfrm>
          <a:prstGeom prst="rect">
            <a:avLst/>
          </a:prstGeom>
          <a:solidFill>
            <a:srgbClr val="ffffff"/>
          </a:solidFill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72000" bIns="0" anchor="t">
            <a:noAutofit/>
          </a:bodyPr>
          <a:p>
            <a:pPr marL="177840" indent="-16524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 Narrow"/>
              </a:rPr>
              <a:t>Xxxx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" y="6480"/>
            <a:ext cx="854568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669e"/>
                </a:solidFill>
                <a:latin typeface="Calibri"/>
              </a:rPr>
              <a:t>Monatsbericht: Projektname </a:t>
            </a: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umsplatzhalter 3"/>
          <p:cNvSpPr/>
          <p:nvPr/>
        </p:nvSpPr>
        <p:spPr>
          <a:xfrm>
            <a:off x="45720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DC3D-4EF5-46A2-AA6F-51BC231D3215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Foliennummernplatzhalter 5"/>
          <p:cNvSpPr/>
          <p:nvPr/>
        </p:nvSpPr>
        <p:spPr>
          <a:xfrm>
            <a:off x="655308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C901-7791-4941-97B1-61404DFDE326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360" y="7920"/>
            <a:ext cx="70567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669e"/>
                </a:solidFill>
                <a:latin typeface="Calibri"/>
              </a:rPr>
              <a:t>Kritische Punkte: Projektname </a:t>
            </a: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3429000" y="857160"/>
            <a:ext cx="5529240" cy="322200"/>
          </a:xfrm>
          <a:prstGeom prst="rect">
            <a:avLst/>
          </a:prstGeom>
          <a:solidFill>
            <a:srgbClr val="00669e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Gibt es kritische Punkte / Schwierigkeiten oder allg. Situationen, die Ihren Fortschritt behindern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Worauf hat das Auswirkungen? Auf das Ergebnis, auf Termine oder steht Ihnen zu wenig Zeit zur Verfügung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Rectangle 59"/>
          <p:cNvSpPr/>
          <p:nvPr/>
        </p:nvSpPr>
        <p:spPr>
          <a:xfrm>
            <a:off x="3429000" y="1214280"/>
            <a:ext cx="5535720" cy="847800"/>
          </a:xfrm>
          <a:prstGeom prst="rect">
            <a:avLst/>
          </a:prstGeom>
          <a:solidFill>
            <a:srgbClr val="ffffff"/>
          </a:solidFill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Gesamtsituation, z. B. „grün“, weil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Inhalt „grün“, weil…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Zeit „grün“, weil…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buClr>
                <a:srgbClr val="00467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Ressourcen „rot“, weil…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7840" y="2103480"/>
          <a:ext cx="8786880" cy="1536480"/>
        </p:xfrm>
        <a:graphic>
          <a:graphicData uri="http://schemas.openxmlformats.org/drawingml/2006/table">
            <a:tbl>
              <a:tblPr/>
              <a:tblGrid>
                <a:gridCol w="147600"/>
                <a:gridCol w="809640"/>
                <a:gridCol w="3327480"/>
                <a:gridCol w="3449520"/>
                <a:gridCol w="453960"/>
                <a:gridCol w="598680"/>
              </a:tblGrid>
              <a:tr h="34200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Risik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Auswirk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Maßnah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Verant-wortli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Status Maßnah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</a:tr>
              <a:tr h="3452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8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66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Oval 57"/>
          <p:cNvSpPr/>
          <p:nvPr/>
        </p:nvSpPr>
        <p:spPr>
          <a:xfrm rot="10800000">
            <a:off x="8137080" y="5149440"/>
            <a:ext cx="150840" cy="157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Oval 24"/>
          <p:cNvSpPr/>
          <p:nvPr/>
        </p:nvSpPr>
        <p:spPr>
          <a:xfrm rot="10800000">
            <a:off x="8319600" y="5146200"/>
            <a:ext cx="150840" cy="1573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Oval 24"/>
          <p:cNvSpPr/>
          <p:nvPr/>
        </p:nvSpPr>
        <p:spPr>
          <a:xfrm rot="10800000">
            <a:off x="7978320" y="5148360"/>
            <a:ext cx="150840" cy="156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7840" y="3770280"/>
          <a:ext cx="8786880" cy="1243080"/>
        </p:xfrm>
        <a:graphic>
          <a:graphicData uri="http://schemas.openxmlformats.org/drawingml/2006/table">
            <a:tbl>
              <a:tblPr/>
              <a:tblGrid>
                <a:gridCol w="147600"/>
                <a:gridCol w="716040"/>
                <a:gridCol w="3421080"/>
                <a:gridCol w="3449520"/>
                <a:gridCol w="453960"/>
                <a:gridCol w="598680"/>
              </a:tblGrid>
              <a:tr h="33012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Entscheidungs-beda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Maßnah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Verant-wortli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Status Maßnah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00669e"/>
                    </a:solidFill>
                  </a:tcPr>
                </a:tc>
              </a:tr>
              <a:tr h="2984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oh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r" pos="646416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6" name="Rectangle 21"/>
          <p:cNvSpPr/>
          <p:nvPr/>
        </p:nvSpPr>
        <p:spPr>
          <a:xfrm>
            <a:off x="179280" y="857160"/>
            <a:ext cx="3141720" cy="1204920"/>
          </a:xfrm>
          <a:prstGeom prst="rect">
            <a:avLst/>
          </a:prstGeom>
          <a:solidFill>
            <a:srgbClr val="ffffff"/>
          </a:solidFill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72000" bIns="0" anchor="t">
            <a:noAutofit/>
          </a:bodyPr>
          <a:p>
            <a:pPr marL="177840" indent="-165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279360" y="1001880"/>
            <a:ext cx="2587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1257480"/>
                <a:tab algn="l" pos="1704960"/>
                <a:tab algn="l" pos="1795320"/>
                <a:tab algn="l" pos="224316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    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Gesamt          Ergebnis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   Termine   Ressourcen   Kost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AutoShape 23"/>
          <p:cNvSpPr/>
          <p:nvPr/>
        </p:nvSpPr>
        <p:spPr>
          <a:xfrm rot="10800000">
            <a:off x="488880" y="1179000"/>
            <a:ext cx="216000" cy="638280"/>
          </a:xfrm>
          <a:custGeom>
            <a:avLst/>
            <a:gdLst>
              <a:gd name="textAreaLeft" fmla="*/ 4680 w 216000"/>
              <a:gd name="textAreaRight" fmla="*/ 211320 w 21600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758">
                <a:moveTo>
                  <a:pt x="1631" y="0"/>
                </a:moveTo>
                <a:arcTo wR="1631" hR="1631" stAng="16200000" swAng="-5400000"/>
                <a:lnTo>
                  <a:pt x="0" y="62127"/>
                </a:lnTo>
                <a:arcTo wR="1631" hR="1631" stAng="10800000" swAng="-5400000"/>
                <a:lnTo>
                  <a:pt x="19969" y="63758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Oval 24"/>
          <p:cNvSpPr/>
          <p:nvPr/>
        </p:nvSpPr>
        <p:spPr>
          <a:xfrm rot="10800000">
            <a:off x="520200" y="1208160"/>
            <a:ext cx="150840" cy="156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AutoShape 23"/>
          <p:cNvSpPr/>
          <p:nvPr/>
        </p:nvSpPr>
        <p:spPr>
          <a:xfrm rot="10800000">
            <a:off x="1164960" y="1179000"/>
            <a:ext cx="215640" cy="638280"/>
          </a:xfrm>
          <a:custGeom>
            <a:avLst/>
            <a:gdLst>
              <a:gd name="textAreaLeft" fmla="*/ 4680 w 215640"/>
              <a:gd name="textAreaRight" fmla="*/ 210960 w 21564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864">
                <a:moveTo>
                  <a:pt x="1631" y="0"/>
                </a:moveTo>
                <a:arcTo wR="1631" hR="1631" stAng="16200000" swAng="-5400000"/>
                <a:lnTo>
                  <a:pt x="0" y="62233"/>
                </a:lnTo>
                <a:arcTo wR="1631" hR="1631" stAng="10800000" swAng="-5400000"/>
                <a:lnTo>
                  <a:pt x="19969" y="63864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Oval 24"/>
          <p:cNvSpPr/>
          <p:nvPr/>
        </p:nvSpPr>
        <p:spPr>
          <a:xfrm rot="10800000">
            <a:off x="1196640" y="1208160"/>
            <a:ext cx="150840" cy="156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AutoShape 23"/>
          <p:cNvSpPr/>
          <p:nvPr/>
        </p:nvSpPr>
        <p:spPr>
          <a:xfrm rot="10800000">
            <a:off x="1717560" y="1179000"/>
            <a:ext cx="216000" cy="638280"/>
          </a:xfrm>
          <a:custGeom>
            <a:avLst/>
            <a:gdLst>
              <a:gd name="textAreaLeft" fmla="*/ 4680 w 216000"/>
              <a:gd name="textAreaRight" fmla="*/ 211320 w 21600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758">
                <a:moveTo>
                  <a:pt x="1631" y="0"/>
                </a:moveTo>
                <a:arcTo wR="1631" hR="1631" stAng="16200000" swAng="-5400000"/>
                <a:lnTo>
                  <a:pt x="0" y="62127"/>
                </a:lnTo>
                <a:arcTo wR="1631" hR="1631" stAng="10800000" swAng="-5400000"/>
                <a:lnTo>
                  <a:pt x="19969" y="63758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Oval 24"/>
          <p:cNvSpPr/>
          <p:nvPr/>
        </p:nvSpPr>
        <p:spPr>
          <a:xfrm rot="10800000">
            <a:off x="1749600" y="1208160"/>
            <a:ext cx="150480" cy="156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Oval 56"/>
          <p:cNvSpPr/>
          <p:nvPr/>
        </p:nvSpPr>
        <p:spPr>
          <a:xfrm rot="10800000">
            <a:off x="1749600" y="1406160"/>
            <a:ext cx="150480" cy="157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Oval 45"/>
          <p:cNvSpPr/>
          <p:nvPr/>
        </p:nvSpPr>
        <p:spPr>
          <a:xfrm rot="10800000">
            <a:off x="2317320" y="159660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Oval 51"/>
          <p:cNvSpPr/>
          <p:nvPr/>
        </p:nvSpPr>
        <p:spPr>
          <a:xfrm rot="10800000">
            <a:off x="2312640" y="140292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Oval 46"/>
          <p:cNvSpPr/>
          <p:nvPr/>
        </p:nvSpPr>
        <p:spPr>
          <a:xfrm rot="10800000">
            <a:off x="2293560" y="120456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Oval 51"/>
          <p:cNvSpPr/>
          <p:nvPr/>
        </p:nvSpPr>
        <p:spPr>
          <a:xfrm rot="10800000">
            <a:off x="2293560" y="140292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AutoShape 23"/>
          <p:cNvSpPr/>
          <p:nvPr/>
        </p:nvSpPr>
        <p:spPr>
          <a:xfrm rot="10800000">
            <a:off x="2251080" y="1179000"/>
            <a:ext cx="216000" cy="638280"/>
          </a:xfrm>
          <a:custGeom>
            <a:avLst/>
            <a:gdLst>
              <a:gd name="textAreaLeft" fmla="*/ 4680 w 216000"/>
              <a:gd name="textAreaRight" fmla="*/ 211320 w 21600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758">
                <a:moveTo>
                  <a:pt x="1631" y="0"/>
                </a:moveTo>
                <a:arcTo wR="1631" hR="1631" stAng="16200000" swAng="-5400000"/>
                <a:lnTo>
                  <a:pt x="0" y="62127"/>
                </a:lnTo>
                <a:arcTo wR="1631" hR="1631" stAng="10800000" swAng="-5400000"/>
                <a:lnTo>
                  <a:pt x="19969" y="63758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Oval 57"/>
          <p:cNvSpPr/>
          <p:nvPr/>
        </p:nvSpPr>
        <p:spPr>
          <a:xfrm rot="10800000">
            <a:off x="2282400" y="162576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Oval 56"/>
          <p:cNvSpPr/>
          <p:nvPr/>
        </p:nvSpPr>
        <p:spPr>
          <a:xfrm rot="10800000">
            <a:off x="523440" y="161460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Oval 57"/>
          <p:cNvSpPr/>
          <p:nvPr/>
        </p:nvSpPr>
        <p:spPr>
          <a:xfrm rot="10800000">
            <a:off x="523440" y="1406160"/>
            <a:ext cx="150840" cy="1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Oval 57"/>
          <p:cNvSpPr/>
          <p:nvPr/>
        </p:nvSpPr>
        <p:spPr>
          <a:xfrm rot="10800000">
            <a:off x="1203480" y="1422000"/>
            <a:ext cx="150480" cy="1587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Oval 24"/>
          <p:cNvSpPr/>
          <p:nvPr/>
        </p:nvSpPr>
        <p:spPr>
          <a:xfrm rot="10800000">
            <a:off x="518760" y="120816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TextBox 77"/>
          <p:cNvSpPr/>
          <p:nvPr/>
        </p:nvSpPr>
        <p:spPr>
          <a:xfrm>
            <a:off x="652320" y="1352520"/>
            <a:ext cx="24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=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Oval 57"/>
          <p:cNvSpPr/>
          <p:nvPr/>
        </p:nvSpPr>
        <p:spPr>
          <a:xfrm rot="10800000">
            <a:off x="1196640" y="1620360"/>
            <a:ext cx="150840" cy="1587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Oval 24"/>
          <p:cNvSpPr/>
          <p:nvPr/>
        </p:nvSpPr>
        <p:spPr>
          <a:xfrm rot="10800000">
            <a:off x="1747440" y="1615680"/>
            <a:ext cx="150840" cy="1573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Oval 56"/>
          <p:cNvSpPr/>
          <p:nvPr/>
        </p:nvSpPr>
        <p:spPr>
          <a:xfrm rot="10800000">
            <a:off x="1747440" y="161784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AutoShape 23"/>
          <p:cNvSpPr/>
          <p:nvPr/>
        </p:nvSpPr>
        <p:spPr>
          <a:xfrm rot="10800000">
            <a:off x="2786040" y="1182240"/>
            <a:ext cx="216000" cy="638280"/>
          </a:xfrm>
          <a:custGeom>
            <a:avLst/>
            <a:gdLst>
              <a:gd name="textAreaLeft" fmla="*/ 4680 w 216000"/>
              <a:gd name="textAreaRight" fmla="*/ 211320 w 216000"/>
              <a:gd name="textAreaTop" fmla="*/ 4680 h 638280"/>
              <a:gd name="textAreaBottom" fmla="*/ 633600 h 638280"/>
            </a:gdLst>
            <a:ahLst/>
            <a:rect l="textAreaLeft" t="textAreaTop" r="textAreaRight" b="textAreaBottom"/>
            <a:pathLst>
              <a:path w="21600" h="63758">
                <a:moveTo>
                  <a:pt x="1631" y="0"/>
                </a:moveTo>
                <a:arcTo wR="1631" hR="1631" stAng="16200000" swAng="-5400000"/>
                <a:lnTo>
                  <a:pt x="0" y="62127"/>
                </a:lnTo>
                <a:arcTo wR="1631" hR="1631" stAng="10800000" swAng="-5400000"/>
                <a:lnTo>
                  <a:pt x="19969" y="63758"/>
                </a:lnTo>
                <a:arcTo wR="1631" hR="1631" stAng="5400000" swAng="-5400000"/>
                <a:lnTo>
                  <a:pt x="21600" y="1631"/>
                </a:lnTo>
                <a:arcTo wR="1631" hR="1631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Oval 57"/>
          <p:cNvSpPr/>
          <p:nvPr/>
        </p:nvSpPr>
        <p:spPr>
          <a:xfrm rot="10800000">
            <a:off x="2817360" y="1628280"/>
            <a:ext cx="150840" cy="157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Oval 57"/>
          <p:cNvSpPr/>
          <p:nvPr/>
        </p:nvSpPr>
        <p:spPr>
          <a:xfrm rot="10800000">
            <a:off x="2815920" y="1415520"/>
            <a:ext cx="150840" cy="157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Oval 24"/>
          <p:cNvSpPr/>
          <p:nvPr/>
        </p:nvSpPr>
        <p:spPr>
          <a:xfrm rot="10800000">
            <a:off x="2817360" y="1623600"/>
            <a:ext cx="150840" cy="1573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Oval 57"/>
          <p:cNvSpPr/>
          <p:nvPr/>
        </p:nvSpPr>
        <p:spPr>
          <a:xfrm rot="10800000">
            <a:off x="2279160" y="1213920"/>
            <a:ext cx="150840" cy="157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Oval 57"/>
          <p:cNvSpPr/>
          <p:nvPr/>
        </p:nvSpPr>
        <p:spPr>
          <a:xfrm rot="10800000">
            <a:off x="2279160" y="1405080"/>
            <a:ext cx="150840" cy="1569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Oval 24"/>
          <p:cNvSpPr/>
          <p:nvPr/>
        </p:nvSpPr>
        <p:spPr>
          <a:xfrm rot="10800000">
            <a:off x="1750680" y="1614600"/>
            <a:ext cx="150840" cy="15696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Oval 57"/>
          <p:cNvSpPr/>
          <p:nvPr/>
        </p:nvSpPr>
        <p:spPr>
          <a:xfrm rot="10800000">
            <a:off x="2815920" y="1230480"/>
            <a:ext cx="150840" cy="1569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Oval 57"/>
          <p:cNvSpPr/>
          <p:nvPr/>
        </p:nvSpPr>
        <p:spPr>
          <a:xfrm rot="10800000">
            <a:off x="1196640" y="1622520"/>
            <a:ext cx="150840" cy="15696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Oval 57"/>
          <p:cNvSpPr/>
          <p:nvPr/>
        </p:nvSpPr>
        <p:spPr>
          <a:xfrm rot="10800000">
            <a:off x="522000" y="1614600"/>
            <a:ext cx="150840" cy="15696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8:06:14Z</dcterms:created>
  <dc:creator/>
  <dc:description/>
  <dc:language>en-US</dc:language>
  <cp:lastModifiedBy>Frick, Andreas</cp:lastModifiedBy>
  <dcterms:modified xsi:type="dcterms:W3CDTF">2023-06-05T18:09:09Z</dcterms:modified>
  <cp:revision>585</cp:revision>
  <dc:subject/>
  <dc:title>Monatsbericht: Projektname </dc:title>
</cp:coreProperties>
</file>