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3705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C73-A65E-4B69-8973-9A451424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889-1B65-4B8C-A475-25342141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2B7-7759-4E1E-BDC0-9DF2130E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865-D2CD-44A6-B201-7CA5817A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52C-4F31-426B-9188-3410108A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BE9-49FF-44F8-A5E7-1EFCB5EB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B12-7EC0-4E9E-804C-A1300C0C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96A-9479-4AC4-918C-E2172745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286-EAE7-4112-87F5-6915BD76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93A-FF7A-4A83-851C-12FDC13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D58-A5B2-4833-8C8A-8A635C6F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775-574E-404F-80AE-34A7968E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5092560"/>
            <a:ext cx="9147240" cy="2797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-1440" y="0"/>
            <a:ext cx="914076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D12B-C443-4D0D-A136-AE89D910F274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5167440"/>
            <a:ext cx="289584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467a"/>
                </a:solidFill>
                <a:latin typeface="Arial Narrow"/>
              </a:rPr>
              <a:t>LUNAR GmbH 2010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ABB-7C08-4825-AE7B-4012DFD367BB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77148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Line 17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Line 15"/>
          <p:cNvSpPr/>
          <p:nvPr/>
        </p:nvSpPr>
        <p:spPr>
          <a:xfrm>
            <a:off x="0" y="509112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pic>
        <p:nvPicPr>
          <p:cNvPr id="10" name="Grafik 12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5"/>
          <p:cNvSpPr/>
          <p:nvPr/>
        </p:nvSpPr>
        <p:spPr>
          <a:xfrm>
            <a:off x="0" y="1139760"/>
            <a:ext cx="9144000" cy="3351240"/>
          </a:xfrm>
          <a:prstGeom prst="rect">
            <a:avLst/>
          </a:prstGeom>
          <a:solidFill>
            <a:srgbClr val="eb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54"/>
          <p:cNvSpPr/>
          <p:nvPr/>
        </p:nvSpPr>
        <p:spPr>
          <a:xfrm>
            <a:off x="0" y="4470480"/>
            <a:ext cx="9144000" cy="7308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" name="Grafik 15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umsplatzhalter 3"/>
          <p:cNvSpPr/>
          <p:nvPr/>
        </p:nvSpPr>
        <p:spPr>
          <a:xfrm>
            <a:off x="45720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0E47-FE68-49E8-B902-22DDA580017C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Foliennummernplatzhalter 5"/>
          <p:cNvSpPr/>
          <p:nvPr/>
        </p:nvSpPr>
        <p:spPr>
          <a:xfrm>
            <a:off x="655308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68AF-9ACB-462D-9076-90023D05E5E1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960" y="12240"/>
            <a:ext cx="854388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Monatsbericht: Projektname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5240" y="1123920"/>
            <a:ext cx="145728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traggeb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693800" y="1125360"/>
            <a:ext cx="1873440" cy="27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XXXX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63440" y="1467000"/>
            <a:ext cx="1457280" cy="3013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1692360" y="1468440"/>
            <a:ext cx="187308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X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659040" y="804960"/>
            <a:ext cx="105912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Starttermi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4776840" y="806400"/>
            <a:ext cx="92880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xx.yy.zzz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3670200" y="1128600"/>
            <a:ext cx="1047960" cy="28908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Umsetzung bis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4775040" y="1130400"/>
            <a:ext cx="93528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xx.yy.zzz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200" y="1968480"/>
            <a:ext cx="143856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Na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1660680" y="1968480"/>
            <a:ext cx="173484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AP-Verantwortlich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1693800" y="808200"/>
            <a:ext cx="187344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166680" y="2290680"/>
            <a:ext cx="14382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bteilung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1662120" y="2301840"/>
            <a:ext cx="17334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x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165240" y="806400"/>
            <a:ext cx="145728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umm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Text Box 65"/>
          <p:cNvSpPr/>
          <p:nvPr/>
        </p:nvSpPr>
        <p:spPr>
          <a:xfrm>
            <a:off x="3670200" y="1473120"/>
            <a:ext cx="1047960" cy="28908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Berichtszeitra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Rectangle 66"/>
          <p:cNvSpPr/>
          <p:nvPr/>
        </p:nvSpPr>
        <p:spPr>
          <a:xfrm>
            <a:off x="4773600" y="1473120"/>
            <a:ext cx="2463840" cy="2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Januar 20xx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60200" y="3459240"/>
            <a:ext cx="1457640" cy="60624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pake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paketnumm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1690560" y="3459240"/>
            <a:ext cx="4015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5803920" y="3463920"/>
            <a:ext cx="14382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wand: pla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7296120" y="3465360"/>
            <a:ext cx="1735200" cy="27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5802480" y="3803760"/>
            <a:ext cx="143820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wand: is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7297560" y="3798720"/>
            <a:ext cx="1733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60200" y="4191120"/>
            <a:ext cx="1457640" cy="60804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pake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paketnumm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1690560" y="4191120"/>
            <a:ext cx="4015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5803920" y="4197240"/>
            <a:ext cx="14382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wand: pla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7296120" y="4199040"/>
            <a:ext cx="173520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5802480" y="4537080"/>
            <a:ext cx="14382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wand: is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7297560" y="4532400"/>
            <a:ext cx="1733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3670200" y="1965240"/>
            <a:ext cx="1438200" cy="6033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inzipielle Verfügbarkeit pro Mona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5165640" y="1976400"/>
            <a:ext cx="173376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 Tage / Mon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0200" y="2757600"/>
            <a:ext cx="1457640" cy="60624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pake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paketnumm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690560" y="2757600"/>
            <a:ext cx="4015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5803920" y="2762280"/>
            <a:ext cx="143820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wand: pla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296120" y="2763720"/>
            <a:ext cx="173520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5802480" y="3102120"/>
            <a:ext cx="143820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wand: is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3"/>
          <p:cNvSpPr/>
          <p:nvPr/>
        </p:nvSpPr>
        <p:spPr>
          <a:xfrm>
            <a:off x="7297560" y="3097080"/>
            <a:ext cx="1733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umsplatzhalter 3"/>
          <p:cNvSpPr/>
          <p:nvPr/>
        </p:nvSpPr>
        <p:spPr>
          <a:xfrm>
            <a:off x="45720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65F6-65A2-4185-8D57-5DC594782A15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Foliennummernplatzhalter 5"/>
          <p:cNvSpPr/>
          <p:nvPr/>
        </p:nvSpPr>
        <p:spPr>
          <a:xfrm>
            <a:off x="655308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EB57-E14F-4433-8815-C0D9D1EE863D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146160" y="930240"/>
            <a:ext cx="8858160" cy="187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esentliche erreichte Ergebnisse (neuste in Fettschrift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146160" y="2927520"/>
            <a:ext cx="8858160" cy="187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esentliche erwartete Ergebnisse bis zum nächsten Berichtszeitpunk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146160" y="1112760"/>
            <a:ext cx="8862840" cy="172260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46160" y="3156120"/>
            <a:ext cx="8859600" cy="183492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" y="6480"/>
            <a:ext cx="854568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Monatsbericht: Projektname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umsplatzhalter 3"/>
          <p:cNvSpPr/>
          <p:nvPr/>
        </p:nvSpPr>
        <p:spPr>
          <a:xfrm>
            <a:off x="457200" y="506268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A3C3-AA07-4591-B354-5037A1EA94F9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Foliennummernplatzhalter 5"/>
          <p:cNvSpPr/>
          <p:nvPr/>
        </p:nvSpPr>
        <p:spPr>
          <a:xfrm>
            <a:off x="6553080" y="506268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CFD6-AC74-4639-B232-0F055B567FD7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360" y="7920"/>
            <a:ext cx="7056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467a"/>
                </a:solidFill>
                <a:latin typeface="Calibri"/>
              </a:rPr>
              <a:t>Kritische Punkte: Projektname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179280" y="857160"/>
            <a:ext cx="3141720" cy="120492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3430440" y="857160"/>
            <a:ext cx="5527800" cy="322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Gibt es kritische Punkte / Schwierigkeiten oder allg. Situationen, die Ihren Fortschritt behindern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orauf hat das Auswirkungen? Auf das Ergebnis, auf Termine oder steht Ihnen zu wenig Zeit zur Verfügung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3430440" y="1214280"/>
            <a:ext cx="5534280" cy="84780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Gesamtsituation, z. B. „grün“, weil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lvl="1" marL="357120" indent="-8892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nhalt „grün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357120" indent="-8892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Zeit „grün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357120" indent="-8892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Ressourcen „rot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7840" y="2152800"/>
          <a:ext cx="8786880" cy="1373040"/>
        </p:xfrm>
        <a:graphic>
          <a:graphicData uri="http://schemas.openxmlformats.org/drawingml/2006/table">
            <a:tbl>
              <a:tblPr/>
              <a:tblGrid>
                <a:gridCol w="147600"/>
                <a:gridCol w="716040"/>
                <a:gridCol w="4149720"/>
                <a:gridCol w="2720880"/>
                <a:gridCol w="453960"/>
                <a:gridCol w="598680"/>
              </a:tblGrid>
              <a:tr h="30996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Risik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Auswirk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Verant-wortl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tatus 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2574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1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66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Oval 57"/>
          <p:cNvSpPr/>
          <p:nvPr/>
        </p:nvSpPr>
        <p:spPr>
          <a:xfrm rot="10800000">
            <a:off x="1398240" y="5137200"/>
            <a:ext cx="150840" cy="156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Oval 24"/>
          <p:cNvSpPr/>
          <p:nvPr/>
        </p:nvSpPr>
        <p:spPr>
          <a:xfrm rot="10800000">
            <a:off x="1639440" y="515412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Oval 24"/>
          <p:cNvSpPr/>
          <p:nvPr/>
        </p:nvSpPr>
        <p:spPr>
          <a:xfrm rot="10800000">
            <a:off x="1874520" y="5156280"/>
            <a:ext cx="150840" cy="156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7840" y="3638520"/>
          <a:ext cx="8786880" cy="1335240"/>
        </p:xfrm>
        <a:graphic>
          <a:graphicData uri="http://schemas.openxmlformats.org/drawingml/2006/table">
            <a:tbl>
              <a:tblPr/>
              <a:tblGrid>
                <a:gridCol w="147600"/>
                <a:gridCol w="716040"/>
                <a:gridCol w="4149720"/>
                <a:gridCol w="2720880"/>
                <a:gridCol w="453960"/>
                <a:gridCol w="598680"/>
              </a:tblGrid>
              <a:tr h="3214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Entscheidungs-beda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Verant-wortl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tatus 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2412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0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9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66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22"/>
          <p:cNvSpPr/>
          <p:nvPr/>
        </p:nvSpPr>
        <p:spPr>
          <a:xfrm>
            <a:off x="279360" y="1001880"/>
            <a:ext cx="2587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1257480"/>
                <a:tab algn="l" pos="1704960"/>
                <a:tab algn="l" pos="1795320"/>
                <a:tab algn="l" pos="224316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Gesamt          Ergebnis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Termine   Ressourcen   Kost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AutoShape 23"/>
          <p:cNvSpPr/>
          <p:nvPr/>
        </p:nvSpPr>
        <p:spPr>
          <a:xfrm rot="10800000">
            <a:off x="48888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Oval 24"/>
          <p:cNvSpPr/>
          <p:nvPr/>
        </p:nvSpPr>
        <p:spPr>
          <a:xfrm rot="10800000">
            <a:off x="520200" y="1208160"/>
            <a:ext cx="15084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AutoShape 23"/>
          <p:cNvSpPr/>
          <p:nvPr/>
        </p:nvSpPr>
        <p:spPr>
          <a:xfrm rot="10800000">
            <a:off x="1164960" y="1179000"/>
            <a:ext cx="215640" cy="638280"/>
          </a:xfrm>
          <a:custGeom>
            <a:avLst/>
            <a:gdLst>
              <a:gd name="textAreaLeft" fmla="*/ 4680 w 215640"/>
              <a:gd name="textAreaRight" fmla="*/ 210960 w 21564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864">
                <a:moveTo>
                  <a:pt x="1631" y="0"/>
                </a:moveTo>
                <a:arcTo wR="1631" hR="1631" stAng="16200000" swAng="-5400000"/>
                <a:lnTo>
                  <a:pt x="0" y="62233"/>
                </a:lnTo>
                <a:arcTo wR="1631" hR="1631" stAng="10800000" swAng="-5400000"/>
                <a:lnTo>
                  <a:pt x="19969" y="63864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Oval 24"/>
          <p:cNvSpPr/>
          <p:nvPr/>
        </p:nvSpPr>
        <p:spPr>
          <a:xfrm rot="10800000">
            <a:off x="1196640" y="1208160"/>
            <a:ext cx="15084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AutoShape 23"/>
          <p:cNvSpPr/>
          <p:nvPr/>
        </p:nvSpPr>
        <p:spPr>
          <a:xfrm rot="10800000">
            <a:off x="171756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Oval 24"/>
          <p:cNvSpPr/>
          <p:nvPr/>
        </p:nvSpPr>
        <p:spPr>
          <a:xfrm rot="10800000">
            <a:off x="1749600" y="1208160"/>
            <a:ext cx="15048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Oval 56"/>
          <p:cNvSpPr/>
          <p:nvPr/>
        </p:nvSpPr>
        <p:spPr>
          <a:xfrm rot="10800000">
            <a:off x="1749600" y="1406160"/>
            <a:ext cx="15048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Oval 45"/>
          <p:cNvSpPr/>
          <p:nvPr/>
        </p:nvSpPr>
        <p:spPr>
          <a:xfrm rot="10800000">
            <a:off x="2317320" y="159660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Oval 51"/>
          <p:cNvSpPr/>
          <p:nvPr/>
        </p:nvSpPr>
        <p:spPr>
          <a:xfrm rot="10800000">
            <a:off x="2312640" y="140292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Oval 46"/>
          <p:cNvSpPr/>
          <p:nvPr/>
        </p:nvSpPr>
        <p:spPr>
          <a:xfrm rot="10800000">
            <a:off x="2293560" y="120456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Oval 51"/>
          <p:cNvSpPr/>
          <p:nvPr/>
        </p:nvSpPr>
        <p:spPr>
          <a:xfrm rot="10800000">
            <a:off x="2293560" y="140292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225108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Oval 57"/>
          <p:cNvSpPr/>
          <p:nvPr/>
        </p:nvSpPr>
        <p:spPr>
          <a:xfrm rot="10800000">
            <a:off x="2282400" y="162576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Oval 56"/>
          <p:cNvSpPr/>
          <p:nvPr/>
        </p:nvSpPr>
        <p:spPr>
          <a:xfrm rot="10800000">
            <a:off x="523440" y="161460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Oval 57"/>
          <p:cNvSpPr/>
          <p:nvPr/>
        </p:nvSpPr>
        <p:spPr>
          <a:xfrm rot="10800000">
            <a:off x="523440" y="140616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Oval 57"/>
          <p:cNvSpPr/>
          <p:nvPr/>
        </p:nvSpPr>
        <p:spPr>
          <a:xfrm rot="10800000">
            <a:off x="1203480" y="1422000"/>
            <a:ext cx="150480" cy="1587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Oval 24"/>
          <p:cNvSpPr/>
          <p:nvPr/>
        </p:nvSpPr>
        <p:spPr>
          <a:xfrm rot="10800000">
            <a:off x="518760" y="120816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TextBox 77"/>
          <p:cNvSpPr/>
          <p:nvPr/>
        </p:nvSpPr>
        <p:spPr>
          <a:xfrm>
            <a:off x="652320" y="1352520"/>
            <a:ext cx="24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=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Oval 57"/>
          <p:cNvSpPr/>
          <p:nvPr/>
        </p:nvSpPr>
        <p:spPr>
          <a:xfrm rot="10800000">
            <a:off x="1196640" y="1620360"/>
            <a:ext cx="150840" cy="1587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Oval 24"/>
          <p:cNvSpPr/>
          <p:nvPr/>
        </p:nvSpPr>
        <p:spPr>
          <a:xfrm rot="10800000">
            <a:off x="1747440" y="161568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Oval 56"/>
          <p:cNvSpPr/>
          <p:nvPr/>
        </p:nvSpPr>
        <p:spPr>
          <a:xfrm rot="10800000">
            <a:off x="1747440" y="161784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AutoShape 23"/>
          <p:cNvSpPr/>
          <p:nvPr/>
        </p:nvSpPr>
        <p:spPr>
          <a:xfrm rot="10800000">
            <a:off x="2786040" y="118224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Oval 57"/>
          <p:cNvSpPr/>
          <p:nvPr/>
        </p:nvSpPr>
        <p:spPr>
          <a:xfrm rot="10800000">
            <a:off x="2817360" y="1628280"/>
            <a:ext cx="15084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Oval 57"/>
          <p:cNvSpPr/>
          <p:nvPr/>
        </p:nvSpPr>
        <p:spPr>
          <a:xfrm rot="10800000">
            <a:off x="2815920" y="1415520"/>
            <a:ext cx="15084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Oval 24"/>
          <p:cNvSpPr/>
          <p:nvPr/>
        </p:nvSpPr>
        <p:spPr>
          <a:xfrm rot="10800000">
            <a:off x="2817360" y="162360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Oval 57"/>
          <p:cNvSpPr/>
          <p:nvPr/>
        </p:nvSpPr>
        <p:spPr>
          <a:xfrm rot="10800000">
            <a:off x="2279160" y="1213920"/>
            <a:ext cx="15084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Oval 57"/>
          <p:cNvSpPr/>
          <p:nvPr/>
        </p:nvSpPr>
        <p:spPr>
          <a:xfrm rot="10800000">
            <a:off x="2279160" y="1405080"/>
            <a:ext cx="150840" cy="156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Oval 24"/>
          <p:cNvSpPr/>
          <p:nvPr/>
        </p:nvSpPr>
        <p:spPr>
          <a:xfrm rot="10800000">
            <a:off x="1750680" y="161460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Oval 57"/>
          <p:cNvSpPr/>
          <p:nvPr/>
        </p:nvSpPr>
        <p:spPr>
          <a:xfrm rot="10800000">
            <a:off x="2815920" y="123048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Oval 57"/>
          <p:cNvSpPr/>
          <p:nvPr/>
        </p:nvSpPr>
        <p:spPr>
          <a:xfrm rot="10800000">
            <a:off x="1196640" y="162252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Oval 57"/>
          <p:cNvSpPr/>
          <p:nvPr/>
        </p:nvSpPr>
        <p:spPr>
          <a:xfrm rot="10800000">
            <a:off x="522000" y="161460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06:14Z</dcterms:created>
  <dc:creator/>
  <dc:description/>
  <dc:language>en-US</dc:language>
  <cp:lastModifiedBy>Frick, Andreas</cp:lastModifiedBy>
  <dcterms:modified xsi:type="dcterms:W3CDTF">2023-06-05T18:04:40Z</dcterms:modified>
  <cp:revision>504</cp:revision>
  <dc:subject/>
  <dc:title>Monatsbericht: Projektname</dc:title>
</cp:coreProperties>
</file>