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6CB-03BC-4F0A-BB9D-BB9D42E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511-A2EB-4F9A-8EB5-0A2BAAE8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52E-0A07-4927-8142-F2BDD1BA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3E9-C4B7-4C33-8AD6-933B9C2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1092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545-95CE-4612-AAE1-1AD4B79C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567-8C28-432D-B6CD-497B34E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17B-D45E-4158-B2A7-FD42C09F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4E3-59B0-4EFA-871D-4B2B8C56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092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EF9-7801-415A-A928-2EA91A91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AD2-1007-47C9-8748-45A72BF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307-210B-4535-BAA0-EEB7A77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F0D-9AA5-4616-B015-EE61D73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154-7741-4C38-9920-CA2296DBD578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270-3F73-4969-97CE-BC1E5E59C7E0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740-825C-4A00-A04B-0505D2259A4D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CF5E-7D17-4834-82F4-2AB334D811B6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960" y="12240"/>
            <a:ext cx="85438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Monatsbericht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5240" y="112392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traggeb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2000" y="2344680"/>
            <a:ext cx="1457280" cy="389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ziel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5520" y="2801880"/>
            <a:ext cx="1462320" cy="1435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schritte/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Meilenstein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90560" y="2340000"/>
            <a:ext cx="4753080" cy="39204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Hauptzielsetzung aus Projektauftra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690560" y="2820960"/>
            <a:ext cx="4753080" cy="14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Phasen auffüh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ilensteine auffüh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693800" y="1125360"/>
            <a:ext cx="187344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0200" y="1827360"/>
            <a:ext cx="1457640" cy="4507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teiligte Abteilung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690560" y="1827360"/>
            <a:ext cx="734544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, Y, 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63440" y="1467000"/>
            <a:ext cx="1457280" cy="301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692360" y="1468440"/>
            <a:ext cx="1873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659040" y="804960"/>
            <a:ext cx="105912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tarttermi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4776840" y="806400"/>
            <a:ext cx="9288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.yy.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670200" y="112860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Umsetzung bi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775040" y="1130400"/>
            <a:ext cx="9352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.yy.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5" name="Group 32"/>
          <p:cNvGrpSpPr/>
          <p:nvPr/>
        </p:nvGrpSpPr>
        <p:grpSpPr>
          <a:xfrm>
            <a:off x="8694720" y="1131840"/>
            <a:ext cx="216000" cy="666720"/>
            <a:chOff x="8694720" y="1131840"/>
            <a:chExt cx="216000" cy="666720"/>
          </a:xfrm>
        </p:grpSpPr>
        <p:sp>
          <p:nvSpPr>
            <p:cNvPr id="106" name="AutoShape 23"/>
            <p:cNvSpPr/>
            <p:nvPr/>
          </p:nvSpPr>
          <p:spPr>
            <a:xfrm rot="10800000">
              <a:off x="8694720" y="1131840"/>
              <a:ext cx="216000" cy="666720"/>
            </a:xfrm>
            <a:custGeom>
              <a:avLst/>
              <a:gdLst>
                <a:gd name="textAreaLeft" fmla="*/ 4680 w 216000"/>
                <a:gd name="textAreaRight" fmla="*/ 211320 w 216000"/>
                <a:gd name="textAreaTop" fmla="*/ 4680 h 666720"/>
                <a:gd name="textAreaBottom" fmla="*/ 662040 h 666720"/>
              </a:gdLst>
              <a:ahLst/>
              <a:rect l="textAreaLeft" t="textAreaTop" r="textAreaRight" b="textAreaBottom"/>
              <a:pathLst>
                <a:path w="21600" h="66597">
                  <a:moveTo>
                    <a:pt x="1631" y="0"/>
                  </a:moveTo>
                  <a:arcTo wR="1631" hR="1631" stAng="16200000" swAng="-5400000"/>
                  <a:lnTo>
                    <a:pt x="0" y="64966"/>
                  </a:lnTo>
                  <a:arcTo wR="1631" hR="1631" stAng="10800000" swAng="-5400000"/>
                  <a:lnTo>
                    <a:pt x="19969" y="66597"/>
                  </a:lnTo>
                  <a:arcTo wR="1631" hR="1631" stAng="5400000" swAng="-5400000"/>
                  <a:lnTo>
                    <a:pt x="21600" y="1631"/>
                  </a:lnTo>
                  <a:arcTo wR="1631" hR="1631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8724600" y="1161360"/>
              <a:ext cx="155520" cy="589320"/>
              <a:chOff x="8724600" y="1161360"/>
              <a:chExt cx="155520" cy="589320"/>
            </a:xfrm>
          </p:grpSpPr>
          <p:sp>
            <p:nvSpPr>
              <p:cNvPr id="108" name="Oval 24"/>
              <p:cNvSpPr/>
              <p:nvPr/>
            </p:nvSpPr>
            <p:spPr>
              <a:xfrm rot="10800000">
                <a:off x="8726040" y="1161360"/>
                <a:ext cx="150840" cy="165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Oval 56"/>
              <p:cNvSpPr/>
              <p:nvPr/>
            </p:nvSpPr>
            <p:spPr>
              <a:xfrm rot="10800000">
                <a:off x="8729280" y="1587240"/>
                <a:ext cx="150840" cy="163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Oval 57"/>
              <p:cNvSpPr/>
              <p:nvPr/>
            </p:nvSpPr>
            <p:spPr>
              <a:xfrm rot="10800000">
                <a:off x="8729280" y="1369800"/>
                <a:ext cx="150840" cy="163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Oval 24"/>
              <p:cNvSpPr/>
              <p:nvPr/>
            </p:nvSpPr>
            <p:spPr>
              <a:xfrm rot="10800000">
                <a:off x="8724600" y="1161360"/>
                <a:ext cx="150840" cy="165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12" name="Text Box 25"/>
          <p:cNvSpPr/>
          <p:nvPr/>
        </p:nvSpPr>
        <p:spPr>
          <a:xfrm>
            <a:off x="5797440" y="811080"/>
            <a:ext cx="14385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arbeitungsstatu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7297560" y="811080"/>
            <a:ext cx="10083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In Arbe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8331840" y="828720"/>
            <a:ext cx="81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i="1" lang="de-DE" sz="500" spc="-1" strike="noStrike">
                <a:solidFill>
                  <a:srgbClr val="000000"/>
                </a:solidFill>
                <a:latin typeface="Arial"/>
              </a:rPr>
              <a:t>offen, in Arbeit, 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i="1" lang="de-DE" sz="500" spc="-1" strike="noStrike">
                <a:solidFill>
                  <a:srgbClr val="000000"/>
                </a:solidFill>
                <a:latin typeface="Arial"/>
              </a:rPr>
              <a:t>zurückgestellt, erledigt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1693800" y="808200"/>
            <a:ext cx="18734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5803920" y="113364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status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7299360" y="1144440"/>
            <a:ext cx="1179360" cy="6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m Plan, bis heute keine größeren Schwierigkei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165240" y="80640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Oval 56"/>
          <p:cNvSpPr/>
          <p:nvPr/>
        </p:nvSpPr>
        <p:spPr>
          <a:xfrm rot="10800000">
            <a:off x="8729280" y="1587600"/>
            <a:ext cx="150840" cy="163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155520" y="4286160"/>
            <a:ext cx="1462320" cy="6876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bhängigkeit zu ande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en / Aufgab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ectangle 64"/>
          <p:cNvSpPr/>
          <p:nvPr/>
        </p:nvSpPr>
        <p:spPr>
          <a:xfrm>
            <a:off x="1690560" y="4281480"/>
            <a:ext cx="7342200" cy="6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3670200" y="147312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Rectangle 66"/>
          <p:cNvSpPr/>
          <p:nvPr/>
        </p:nvSpPr>
        <p:spPr>
          <a:xfrm>
            <a:off x="4773600" y="1473120"/>
            <a:ext cx="246384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Januar 20xx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Oval 24"/>
          <p:cNvSpPr/>
          <p:nvPr/>
        </p:nvSpPr>
        <p:spPr>
          <a:xfrm rot="10800000">
            <a:off x="8729280" y="159336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507000" y="2654280"/>
            <a:ext cx="1233720" cy="15829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Intern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Berichtszeitraum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Extern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achkosten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791480" y="2654280"/>
            <a:ext cx="612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18 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87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  6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30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6 T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40 T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6507000" y="2344680"/>
            <a:ext cx="25257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aufwände :                  IST            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423280" y="2654280"/>
            <a:ext cx="612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220 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250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800 T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16F-D6CB-4BE4-A85C-EC13E5D377F2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D40-E839-462C-9C6C-F4A9693AD1E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46160" y="930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reichte Ergebnisse (neuste in Fettschrift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146160" y="3459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wartete Ergebnisse bis zum nächsten Berichtszeitpunk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46160" y="1146240"/>
            <a:ext cx="8862840" cy="226368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xxx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46160" y="3695760"/>
            <a:ext cx="8859600" cy="129528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Xxxx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" y="6480"/>
            <a:ext cx="854568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Monatsbericht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8B74-1489-444B-9920-DF9C973D5F17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A48C-E7F8-47AE-B680-8D1EFE69F145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360" y="7920"/>
            <a:ext cx="7056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Kritische Punkte: Projektname 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3429000" y="857160"/>
            <a:ext cx="5529240" cy="322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Gibt es kritische Punkte / Schwierigkeiten oder allg. Situationen, die Ihren Fortschritt behindern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orauf hat das Auswirkungen? Auf das Ergebnis, auf Termine oder steht Ihnen zu wenig Zeit zur Verfügung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3429000" y="1214280"/>
            <a:ext cx="5535720" cy="84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situation, z. B. „grün“, weil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hal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Zei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ssourcen „rot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40" y="2103480"/>
          <a:ext cx="8786880" cy="1536480"/>
        </p:xfrm>
        <a:graphic>
          <a:graphicData uri="http://schemas.openxmlformats.org/drawingml/2006/table">
            <a:tbl>
              <a:tblPr/>
              <a:tblGrid>
                <a:gridCol w="147600"/>
                <a:gridCol w="809640"/>
                <a:gridCol w="3327480"/>
                <a:gridCol w="3449520"/>
                <a:gridCol w="453960"/>
                <a:gridCol w="598680"/>
              </a:tblGrid>
              <a:tr h="34200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Risi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Auswirk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3452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8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Oval 57"/>
          <p:cNvSpPr/>
          <p:nvPr/>
        </p:nvSpPr>
        <p:spPr>
          <a:xfrm rot="10800000">
            <a:off x="8137080" y="5149440"/>
            <a:ext cx="150840" cy="157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Oval 24"/>
          <p:cNvSpPr/>
          <p:nvPr/>
        </p:nvSpPr>
        <p:spPr>
          <a:xfrm rot="10800000">
            <a:off x="8319600" y="51462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Oval 24"/>
          <p:cNvSpPr/>
          <p:nvPr/>
        </p:nvSpPr>
        <p:spPr>
          <a:xfrm rot="10800000">
            <a:off x="7978320" y="5148360"/>
            <a:ext cx="150840" cy="156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7840" y="3770280"/>
          <a:ext cx="8786880" cy="124308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3421080"/>
                <a:gridCol w="3449520"/>
                <a:gridCol w="453960"/>
                <a:gridCol w="598680"/>
              </a:tblGrid>
              <a:tr h="33012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Entscheidungs-bed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984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h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179280" y="857160"/>
            <a:ext cx="3141720" cy="12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279360" y="1001880"/>
            <a:ext cx="2587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1257480"/>
                <a:tab algn="l" pos="1704960"/>
                <a:tab algn="l" pos="1795320"/>
                <a:tab algn="l" pos="224316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          Ergebnis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Termine   Ressourcen   Kos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AutoShape 23"/>
          <p:cNvSpPr/>
          <p:nvPr/>
        </p:nvSpPr>
        <p:spPr>
          <a:xfrm rot="10800000">
            <a:off x="4888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Oval 24"/>
          <p:cNvSpPr/>
          <p:nvPr/>
        </p:nvSpPr>
        <p:spPr>
          <a:xfrm rot="10800000">
            <a:off x="52020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AutoShape 23"/>
          <p:cNvSpPr/>
          <p:nvPr/>
        </p:nvSpPr>
        <p:spPr>
          <a:xfrm rot="10800000">
            <a:off x="1164960" y="1179000"/>
            <a:ext cx="215640" cy="638280"/>
          </a:xfrm>
          <a:custGeom>
            <a:avLst/>
            <a:gdLst>
              <a:gd name="textAreaLeft" fmla="*/ 4680 w 215640"/>
              <a:gd name="textAreaRight" fmla="*/ 210960 w 21564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864">
                <a:moveTo>
                  <a:pt x="1631" y="0"/>
                </a:moveTo>
                <a:arcTo wR="1631" hR="1631" stAng="16200000" swAng="-5400000"/>
                <a:lnTo>
                  <a:pt x="0" y="62233"/>
                </a:lnTo>
                <a:arcTo wR="1631" hR="1631" stAng="10800000" swAng="-5400000"/>
                <a:lnTo>
                  <a:pt x="19969" y="63864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4"/>
          <p:cNvSpPr/>
          <p:nvPr/>
        </p:nvSpPr>
        <p:spPr>
          <a:xfrm rot="10800000">
            <a:off x="119664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23"/>
          <p:cNvSpPr/>
          <p:nvPr/>
        </p:nvSpPr>
        <p:spPr>
          <a:xfrm rot="10800000">
            <a:off x="171756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Oval 24"/>
          <p:cNvSpPr/>
          <p:nvPr/>
        </p:nvSpPr>
        <p:spPr>
          <a:xfrm rot="10800000">
            <a:off x="1749600" y="1208160"/>
            <a:ext cx="15048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Oval 56"/>
          <p:cNvSpPr/>
          <p:nvPr/>
        </p:nvSpPr>
        <p:spPr>
          <a:xfrm rot="10800000">
            <a:off x="1749600" y="1406160"/>
            <a:ext cx="15048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Oval 45"/>
          <p:cNvSpPr/>
          <p:nvPr/>
        </p:nvSpPr>
        <p:spPr>
          <a:xfrm rot="10800000">
            <a:off x="2317320" y="159660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Oval 51"/>
          <p:cNvSpPr/>
          <p:nvPr/>
        </p:nvSpPr>
        <p:spPr>
          <a:xfrm rot="10800000">
            <a:off x="231264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Oval 46"/>
          <p:cNvSpPr/>
          <p:nvPr/>
        </p:nvSpPr>
        <p:spPr>
          <a:xfrm rot="10800000">
            <a:off x="2293560" y="12045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Oval 51"/>
          <p:cNvSpPr/>
          <p:nvPr/>
        </p:nvSpPr>
        <p:spPr>
          <a:xfrm rot="10800000">
            <a:off x="229356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AutoShape 23"/>
          <p:cNvSpPr/>
          <p:nvPr/>
        </p:nvSpPr>
        <p:spPr>
          <a:xfrm rot="10800000">
            <a:off x="22510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Oval 57"/>
          <p:cNvSpPr/>
          <p:nvPr/>
        </p:nvSpPr>
        <p:spPr>
          <a:xfrm rot="10800000">
            <a:off x="2282400" y="16257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Oval 56"/>
          <p:cNvSpPr/>
          <p:nvPr/>
        </p:nvSpPr>
        <p:spPr>
          <a:xfrm rot="10800000">
            <a:off x="523440" y="161460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Oval 57"/>
          <p:cNvSpPr/>
          <p:nvPr/>
        </p:nvSpPr>
        <p:spPr>
          <a:xfrm rot="10800000">
            <a:off x="523440" y="14061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Oval 57"/>
          <p:cNvSpPr/>
          <p:nvPr/>
        </p:nvSpPr>
        <p:spPr>
          <a:xfrm rot="10800000">
            <a:off x="1203480" y="1422000"/>
            <a:ext cx="15048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Oval 24"/>
          <p:cNvSpPr/>
          <p:nvPr/>
        </p:nvSpPr>
        <p:spPr>
          <a:xfrm rot="10800000">
            <a:off x="518760" y="12081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TextBox 77"/>
          <p:cNvSpPr/>
          <p:nvPr/>
        </p:nvSpPr>
        <p:spPr>
          <a:xfrm>
            <a:off x="652320" y="135252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Oval 57"/>
          <p:cNvSpPr/>
          <p:nvPr/>
        </p:nvSpPr>
        <p:spPr>
          <a:xfrm rot="10800000">
            <a:off x="1196640" y="1620360"/>
            <a:ext cx="15084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Oval 24"/>
          <p:cNvSpPr/>
          <p:nvPr/>
        </p:nvSpPr>
        <p:spPr>
          <a:xfrm rot="10800000">
            <a:off x="1747440" y="161568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Oval 56"/>
          <p:cNvSpPr/>
          <p:nvPr/>
        </p:nvSpPr>
        <p:spPr>
          <a:xfrm rot="10800000">
            <a:off x="1747440" y="161784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AutoShape 23"/>
          <p:cNvSpPr/>
          <p:nvPr/>
        </p:nvSpPr>
        <p:spPr>
          <a:xfrm rot="10800000">
            <a:off x="2786040" y="118224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Oval 57"/>
          <p:cNvSpPr/>
          <p:nvPr/>
        </p:nvSpPr>
        <p:spPr>
          <a:xfrm rot="10800000">
            <a:off x="2817360" y="162828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Oval 57"/>
          <p:cNvSpPr/>
          <p:nvPr/>
        </p:nvSpPr>
        <p:spPr>
          <a:xfrm rot="10800000">
            <a:off x="2815920" y="14155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Oval 24"/>
          <p:cNvSpPr/>
          <p:nvPr/>
        </p:nvSpPr>
        <p:spPr>
          <a:xfrm rot="10800000">
            <a:off x="2817360" y="16236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Oval 57"/>
          <p:cNvSpPr/>
          <p:nvPr/>
        </p:nvSpPr>
        <p:spPr>
          <a:xfrm rot="10800000">
            <a:off x="2279160" y="12139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Oval 57"/>
          <p:cNvSpPr/>
          <p:nvPr/>
        </p:nvSpPr>
        <p:spPr>
          <a:xfrm rot="10800000">
            <a:off x="2279160" y="1405080"/>
            <a:ext cx="150840" cy="156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Oval 24"/>
          <p:cNvSpPr/>
          <p:nvPr/>
        </p:nvSpPr>
        <p:spPr>
          <a:xfrm rot="10800000">
            <a:off x="175068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Oval 57"/>
          <p:cNvSpPr/>
          <p:nvPr/>
        </p:nvSpPr>
        <p:spPr>
          <a:xfrm rot="10800000">
            <a:off x="2815920" y="123048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Oval 57"/>
          <p:cNvSpPr/>
          <p:nvPr/>
        </p:nvSpPr>
        <p:spPr>
          <a:xfrm rot="10800000">
            <a:off x="1196640" y="162252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Oval 57"/>
          <p:cNvSpPr/>
          <p:nvPr/>
        </p:nvSpPr>
        <p:spPr>
          <a:xfrm rot="10800000">
            <a:off x="52200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8:01:16Z</dcterms:modified>
  <cp:revision>588</cp:revision>
  <dc:subject/>
  <dc:title>Monatsbericht: Projektname </dc:title>
</cp:coreProperties>
</file>