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3705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EE0-5029-4014-987A-CCE67954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26C-EDDF-4192-9652-9F0A6646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2E4-4485-466E-9375-8C5E8B06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705-67C6-4C15-9499-EBA40272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442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AD6-FA8D-4E07-80BA-D7910621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6FF-1173-4BC7-8671-ECAD3589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792-D795-4EC7-B76A-4D361BF5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CD5-5A1F-45AE-81CC-18BDA41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442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6AD-09A8-40FD-A15D-A632812A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3E0-93B2-440D-9AD2-7135911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C45-E042-4C89-BC8A-2657985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794-3A7A-4537-A5C2-9907530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5092560"/>
            <a:ext cx="9147240" cy="2797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1440" y="0"/>
            <a:ext cx="914076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E5EC-7C77-4BE7-B1DA-2D9F2A5099D3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5167440"/>
            <a:ext cx="289584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467a"/>
                </a:solidFill>
                <a:latin typeface="Arial Narrow"/>
              </a:rPr>
              <a:t>LUNAR GmbH 2010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25F8-9CBE-431C-B7AF-A5B167354CC3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77148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Line 17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Line 15"/>
          <p:cNvSpPr/>
          <p:nvPr/>
        </p:nvSpPr>
        <p:spPr>
          <a:xfrm>
            <a:off x="0" y="509112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pic>
        <p:nvPicPr>
          <p:cNvPr id="10" name="Grafik 12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5"/>
          <p:cNvSpPr/>
          <p:nvPr/>
        </p:nvSpPr>
        <p:spPr>
          <a:xfrm>
            <a:off x="0" y="1139760"/>
            <a:ext cx="9144000" cy="3351240"/>
          </a:xfrm>
          <a:prstGeom prst="rect">
            <a:avLst/>
          </a:prstGeom>
          <a:solidFill>
            <a:srgbClr val="eb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54"/>
          <p:cNvSpPr/>
          <p:nvPr/>
        </p:nvSpPr>
        <p:spPr>
          <a:xfrm>
            <a:off x="0" y="4470480"/>
            <a:ext cx="9144000" cy="730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" name="Grafik 15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442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umsplatzhalter 3"/>
          <p:cNvSpPr/>
          <p:nvPr/>
        </p:nvSpPr>
        <p:spPr>
          <a:xfrm>
            <a:off x="45720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4DA2-1886-49EA-92DC-40C608B03484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Foliennummernplatzhalter 5"/>
          <p:cNvSpPr/>
          <p:nvPr/>
        </p:nvSpPr>
        <p:spPr>
          <a:xfrm>
            <a:off x="655308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E023-83B1-4E43-869D-82199226A822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960" y="12240"/>
            <a:ext cx="85438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Risikobericht Monat: Projektname 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5240" y="112392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traggeb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2000" y="2344680"/>
            <a:ext cx="1457280" cy="389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ziel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5520" y="2801880"/>
            <a:ext cx="1462320" cy="1435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schritte/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Meilenstein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90560" y="2340000"/>
            <a:ext cx="4572000" cy="39204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Hauptzielsetzung aus Projektauftra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690560" y="2820960"/>
            <a:ext cx="4572000" cy="14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Phasen aufführ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ilensteine aufführ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693800" y="1125360"/>
            <a:ext cx="1873440" cy="2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60200" y="1827360"/>
            <a:ext cx="1457640" cy="4507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teiligte Abteilunge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690560" y="1827360"/>
            <a:ext cx="7345440" cy="452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, Y, 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63440" y="1467000"/>
            <a:ext cx="1457280" cy="301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692360" y="1468440"/>
            <a:ext cx="1873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659040" y="804960"/>
            <a:ext cx="105912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Starttermi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4776840" y="806400"/>
            <a:ext cx="9288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.yy.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670200" y="112860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Umsetzung bi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775040" y="1130400"/>
            <a:ext cx="93528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.yy.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5" name="Group 32"/>
          <p:cNvGrpSpPr/>
          <p:nvPr/>
        </p:nvGrpSpPr>
        <p:grpSpPr>
          <a:xfrm>
            <a:off x="8694720" y="1131840"/>
            <a:ext cx="216000" cy="666720"/>
            <a:chOff x="8694720" y="1131840"/>
            <a:chExt cx="216000" cy="666720"/>
          </a:xfrm>
        </p:grpSpPr>
        <p:sp>
          <p:nvSpPr>
            <p:cNvPr id="106" name="AutoShape 23"/>
            <p:cNvSpPr/>
            <p:nvPr/>
          </p:nvSpPr>
          <p:spPr>
            <a:xfrm rot="10800000">
              <a:off x="8694720" y="1131840"/>
              <a:ext cx="216000" cy="666720"/>
            </a:xfrm>
            <a:custGeom>
              <a:avLst/>
              <a:gdLst>
                <a:gd name="textAreaLeft" fmla="*/ 4680 w 216000"/>
                <a:gd name="textAreaRight" fmla="*/ 211320 w 216000"/>
                <a:gd name="textAreaTop" fmla="*/ 4680 h 666720"/>
                <a:gd name="textAreaBottom" fmla="*/ 662040 h 666720"/>
              </a:gdLst>
              <a:ahLst/>
              <a:rect l="textAreaLeft" t="textAreaTop" r="textAreaRight" b="textAreaBottom"/>
              <a:pathLst>
                <a:path w="21600" h="66597">
                  <a:moveTo>
                    <a:pt x="1631" y="0"/>
                  </a:moveTo>
                  <a:arcTo wR="1631" hR="1631" stAng="16200000" swAng="-5400000"/>
                  <a:lnTo>
                    <a:pt x="0" y="64966"/>
                  </a:lnTo>
                  <a:arcTo wR="1631" hR="1631" stAng="10800000" swAng="-5400000"/>
                  <a:lnTo>
                    <a:pt x="19969" y="66597"/>
                  </a:lnTo>
                  <a:arcTo wR="1631" hR="1631" stAng="5400000" swAng="-5400000"/>
                  <a:lnTo>
                    <a:pt x="21600" y="1631"/>
                  </a:lnTo>
                  <a:arcTo wR="1631" hR="1631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8724600" y="1161360"/>
              <a:ext cx="155520" cy="589320"/>
              <a:chOff x="8724600" y="1161360"/>
              <a:chExt cx="155520" cy="589320"/>
            </a:xfrm>
          </p:grpSpPr>
          <p:sp>
            <p:nvSpPr>
              <p:cNvPr id="108" name="Oval 24"/>
              <p:cNvSpPr/>
              <p:nvPr/>
            </p:nvSpPr>
            <p:spPr>
              <a:xfrm rot="10800000">
                <a:off x="8726040" y="1161360"/>
                <a:ext cx="150840" cy="165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Oval 56"/>
              <p:cNvSpPr/>
              <p:nvPr/>
            </p:nvSpPr>
            <p:spPr>
              <a:xfrm rot="10800000">
                <a:off x="8729280" y="1587240"/>
                <a:ext cx="150840" cy="1634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Oval 57"/>
              <p:cNvSpPr/>
              <p:nvPr/>
            </p:nvSpPr>
            <p:spPr>
              <a:xfrm rot="10800000">
                <a:off x="8729280" y="1369800"/>
                <a:ext cx="150840" cy="1634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Oval 24"/>
              <p:cNvSpPr/>
              <p:nvPr/>
            </p:nvSpPr>
            <p:spPr>
              <a:xfrm rot="10800000">
                <a:off x="8724600" y="1161360"/>
                <a:ext cx="150840" cy="165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12" name="Text Box 25"/>
          <p:cNvSpPr/>
          <p:nvPr/>
        </p:nvSpPr>
        <p:spPr>
          <a:xfrm>
            <a:off x="5797440" y="811080"/>
            <a:ext cx="143856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arbeitungsstatu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7297560" y="811080"/>
            <a:ext cx="10083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Entwurf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1693800" y="808200"/>
            <a:ext cx="18734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5803920" y="1133640"/>
            <a:ext cx="143820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Risikostatus gesam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7299360" y="1144440"/>
            <a:ext cx="1179360" cy="6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m Plan, bis heute keine größeren Schwierigkeit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165240" y="80640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Oval 56"/>
          <p:cNvSpPr/>
          <p:nvPr/>
        </p:nvSpPr>
        <p:spPr>
          <a:xfrm rot="10800000">
            <a:off x="8729280" y="1587600"/>
            <a:ext cx="150840" cy="163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Text Box 63"/>
          <p:cNvSpPr/>
          <p:nvPr/>
        </p:nvSpPr>
        <p:spPr>
          <a:xfrm>
            <a:off x="155520" y="4286160"/>
            <a:ext cx="1462320" cy="6876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bhängigkeit zu ander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en / Aufgabe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Rectangle 64"/>
          <p:cNvSpPr/>
          <p:nvPr/>
        </p:nvSpPr>
        <p:spPr>
          <a:xfrm>
            <a:off x="1690560" y="4281480"/>
            <a:ext cx="7342200" cy="687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 Box 65"/>
          <p:cNvSpPr/>
          <p:nvPr/>
        </p:nvSpPr>
        <p:spPr>
          <a:xfrm>
            <a:off x="3670200" y="147312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richtszeitra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Rectangle 66"/>
          <p:cNvSpPr/>
          <p:nvPr/>
        </p:nvSpPr>
        <p:spPr>
          <a:xfrm>
            <a:off x="4773600" y="1473120"/>
            <a:ext cx="2463840" cy="2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Januar 20xx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Oval 24"/>
          <p:cNvSpPr/>
          <p:nvPr/>
        </p:nvSpPr>
        <p:spPr>
          <a:xfrm rot="10800000">
            <a:off x="8729280" y="159084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356520" y="2343240"/>
            <a:ext cx="1598400" cy="2649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budge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364440" y="2820960"/>
            <a:ext cx="1598400" cy="265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Risikobudge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364440" y="3193920"/>
            <a:ext cx="1598400" cy="2635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Effizienz Risikobudget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356520" y="3605040"/>
            <a:ext cx="1598400" cy="265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Risikowert vor Maßnah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356520" y="3971880"/>
            <a:ext cx="1598400" cy="265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Risikowert nach Maßnah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8048520" y="2346480"/>
            <a:ext cx="9842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4.000.000,00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8048520" y="2825640"/>
            <a:ext cx="98424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111.500,00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8048520" y="3192480"/>
            <a:ext cx="9842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4,29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8048520" y="3603600"/>
            <a:ext cx="9842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532.700,00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8048520" y="3971880"/>
            <a:ext cx="9842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54.900,00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umsplatzhalter 3"/>
          <p:cNvSpPr/>
          <p:nvPr/>
        </p:nvSpPr>
        <p:spPr>
          <a:xfrm>
            <a:off x="45720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80F8-1507-421C-819E-745BFAE509C8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Foliennummernplatzhalter 5"/>
          <p:cNvSpPr/>
          <p:nvPr/>
        </p:nvSpPr>
        <p:spPr>
          <a:xfrm>
            <a:off x="655308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DA1C-4D86-4B99-A26E-298937638FE0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146160" y="93024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reichte Ergebnis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46160" y="345924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wartete Ergebnisse bis zum nächsten Berichtszeitpunk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46160" y="1146240"/>
            <a:ext cx="8862840" cy="226368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Xxxx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46160" y="3695760"/>
            <a:ext cx="8859600" cy="129528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Xxxx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960" y="6480"/>
            <a:ext cx="85453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Risikobericht Monat: Projektname 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DA9-744E-49DD-AB5F-8C6F56D65565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6FCF-B42B-4635-B491-F7B767679840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48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Risikobericht Monat: Projektname 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179280" y="857160"/>
            <a:ext cx="2581560" cy="12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279360" y="1001880"/>
            <a:ext cx="2587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1257480"/>
                <a:tab algn="l" pos="1704960"/>
                <a:tab algn="l" pos="1795320"/>
                <a:tab algn="l" pos="224316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          Ergebnis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Termine    Ressourc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AutoShape 23"/>
          <p:cNvSpPr/>
          <p:nvPr/>
        </p:nvSpPr>
        <p:spPr>
          <a:xfrm rot="10800000">
            <a:off x="4888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Oval 24"/>
          <p:cNvSpPr/>
          <p:nvPr/>
        </p:nvSpPr>
        <p:spPr>
          <a:xfrm rot="10800000">
            <a:off x="52020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AutoShape 23"/>
          <p:cNvSpPr/>
          <p:nvPr/>
        </p:nvSpPr>
        <p:spPr>
          <a:xfrm rot="10800000">
            <a:off x="1164960" y="1179000"/>
            <a:ext cx="215640" cy="638280"/>
          </a:xfrm>
          <a:custGeom>
            <a:avLst/>
            <a:gdLst>
              <a:gd name="textAreaLeft" fmla="*/ 4680 w 215640"/>
              <a:gd name="textAreaRight" fmla="*/ 210960 w 21564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864">
                <a:moveTo>
                  <a:pt x="1631" y="0"/>
                </a:moveTo>
                <a:arcTo wR="1631" hR="1631" stAng="16200000" swAng="-5400000"/>
                <a:lnTo>
                  <a:pt x="0" y="62233"/>
                </a:lnTo>
                <a:arcTo wR="1631" hR="1631" stAng="10800000" swAng="-5400000"/>
                <a:lnTo>
                  <a:pt x="19969" y="63864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Oval 24"/>
          <p:cNvSpPr/>
          <p:nvPr/>
        </p:nvSpPr>
        <p:spPr>
          <a:xfrm rot="10800000">
            <a:off x="119664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AutoShape 23"/>
          <p:cNvSpPr/>
          <p:nvPr/>
        </p:nvSpPr>
        <p:spPr>
          <a:xfrm rot="10800000">
            <a:off x="171756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Oval 24"/>
          <p:cNvSpPr/>
          <p:nvPr/>
        </p:nvSpPr>
        <p:spPr>
          <a:xfrm rot="10800000">
            <a:off x="1749600" y="1208160"/>
            <a:ext cx="15048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Oval 56"/>
          <p:cNvSpPr/>
          <p:nvPr/>
        </p:nvSpPr>
        <p:spPr>
          <a:xfrm rot="10800000">
            <a:off x="1749600" y="1406160"/>
            <a:ext cx="15048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Oval 45"/>
          <p:cNvSpPr/>
          <p:nvPr/>
        </p:nvSpPr>
        <p:spPr>
          <a:xfrm rot="10800000">
            <a:off x="2317320" y="159660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Oval 51"/>
          <p:cNvSpPr/>
          <p:nvPr/>
        </p:nvSpPr>
        <p:spPr>
          <a:xfrm rot="10800000">
            <a:off x="231264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Oval 46"/>
          <p:cNvSpPr/>
          <p:nvPr/>
        </p:nvSpPr>
        <p:spPr>
          <a:xfrm rot="10800000">
            <a:off x="2293560" y="12045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Oval 51"/>
          <p:cNvSpPr/>
          <p:nvPr/>
        </p:nvSpPr>
        <p:spPr>
          <a:xfrm rot="10800000">
            <a:off x="229356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22510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Oval 57"/>
          <p:cNvSpPr/>
          <p:nvPr/>
        </p:nvSpPr>
        <p:spPr>
          <a:xfrm rot="10800000">
            <a:off x="2282400" y="16257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Oval 56"/>
          <p:cNvSpPr/>
          <p:nvPr/>
        </p:nvSpPr>
        <p:spPr>
          <a:xfrm rot="10800000">
            <a:off x="523440" y="161460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Oval 57"/>
          <p:cNvSpPr/>
          <p:nvPr/>
        </p:nvSpPr>
        <p:spPr>
          <a:xfrm rot="10800000">
            <a:off x="523440" y="14061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2916360" y="857160"/>
            <a:ext cx="6041880" cy="322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Gibt es kritische Punkte / Schwierigkeiten oder allg. Situationen, die Ihren Fortschritt behindern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orauf hat das Auswirkungen? Auf das Ergebnis, auf Termine oder steht Ihnen zu wenig Zeit zur Verfügung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Rectangle 59"/>
          <p:cNvSpPr/>
          <p:nvPr/>
        </p:nvSpPr>
        <p:spPr>
          <a:xfrm>
            <a:off x="2917800" y="1214280"/>
            <a:ext cx="6046920" cy="84780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situation, z. B. „grün“, weil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nhal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Zei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essourcen „rot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7840" y="2103480"/>
          <a:ext cx="8786880" cy="1500120"/>
        </p:xfrm>
        <a:graphic>
          <a:graphicData uri="http://schemas.openxmlformats.org/drawingml/2006/table">
            <a:tbl>
              <a:tblPr/>
              <a:tblGrid>
                <a:gridCol w="147600"/>
                <a:gridCol w="809640"/>
                <a:gridCol w="3327480"/>
                <a:gridCol w="3449520"/>
                <a:gridCol w="453960"/>
                <a:gridCol w="598680"/>
              </a:tblGrid>
              <a:tr h="34200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Top-Risik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Beschreib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3092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66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Oval 57"/>
          <p:cNvSpPr/>
          <p:nvPr/>
        </p:nvSpPr>
        <p:spPr>
          <a:xfrm rot="10800000">
            <a:off x="1203480" y="1422000"/>
            <a:ext cx="15048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Oval 57"/>
          <p:cNvSpPr/>
          <p:nvPr/>
        </p:nvSpPr>
        <p:spPr>
          <a:xfrm rot="10800000">
            <a:off x="2288880" y="141300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Oval 24"/>
          <p:cNvSpPr/>
          <p:nvPr/>
        </p:nvSpPr>
        <p:spPr>
          <a:xfrm rot="10800000">
            <a:off x="518760" y="12081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Oval 57"/>
          <p:cNvSpPr/>
          <p:nvPr/>
        </p:nvSpPr>
        <p:spPr>
          <a:xfrm rot="10800000">
            <a:off x="8137080" y="5149440"/>
            <a:ext cx="150840" cy="157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TextBox 77"/>
          <p:cNvSpPr/>
          <p:nvPr/>
        </p:nvSpPr>
        <p:spPr>
          <a:xfrm>
            <a:off x="652320" y="1352520"/>
            <a:ext cx="24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Oval 57"/>
          <p:cNvSpPr/>
          <p:nvPr/>
        </p:nvSpPr>
        <p:spPr>
          <a:xfrm rot="10800000">
            <a:off x="1196640" y="1620360"/>
            <a:ext cx="15084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Oval 56"/>
          <p:cNvSpPr/>
          <p:nvPr/>
        </p:nvSpPr>
        <p:spPr>
          <a:xfrm rot="10800000">
            <a:off x="1747440" y="161784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Oval 24"/>
          <p:cNvSpPr/>
          <p:nvPr/>
        </p:nvSpPr>
        <p:spPr>
          <a:xfrm rot="10800000">
            <a:off x="8319600" y="514620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Oval 24"/>
          <p:cNvSpPr/>
          <p:nvPr/>
        </p:nvSpPr>
        <p:spPr>
          <a:xfrm rot="10800000">
            <a:off x="7978320" y="5148360"/>
            <a:ext cx="150840" cy="156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7840" y="3770280"/>
          <a:ext cx="8786880" cy="1243080"/>
        </p:xfrm>
        <a:graphic>
          <a:graphicData uri="http://schemas.openxmlformats.org/drawingml/2006/table">
            <a:tbl>
              <a:tblPr/>
              <a:tblGrid>
                <a:gridCol w="147600"/>
                <a:gridCol w="716040"/>
                <a:gridCol w="3421080"/>
                <a:gridCol w="3449520"/>
                <a:gridCol w="453960"/>
                <a:gridCol w="598680"/>
              </a:tblGrid>
              <a:tr h="33012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Entscheidungs-beda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2984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oh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4" name="Oval 57"/>
          <p:cNvSpPr/>
          <p:nvPr/>
        </p:nvSpPr>
        <p:spPr>
          <a:xfrm rot="10800000">
            <a:off x="2274480" y="1407600"/>
            <a:ext cx="150840" cy="157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Oval 57"/>
          <p:cNvSpPr/>
          <p:nvPr/>
        </p:nvSpPr>
        <p:spPr>
          <a:xfrm rot="10800000">
            <a:off x="2282400" y="121608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Oval 57"/>
          <p:cNvSpPr/>
          <p:nvPr/>
        </p:nvSpPr>
        <p:spPr>
          <a:xfrm rot="10800000">
            <a:off x="1201320" y="161568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Oval 57"/>
          <p:cNvSpPr/>
          <p:nvPr/>
        </p:nvSpPr>
        <p:spPr>
          <a:xfrm rot="10800000">
            <a:off x="525240" y="161568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Oval 24"/>
          <p:cNvSpPr/>
          <p:nvPr/>
        </p:nvSpPr>
        <p:spPr>
          <a:xfrm rot="10800000">
            <a:off x="1747440" y="161928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umsplatzhalter 3"/>
          <p:cNvSpPr/>
          <p:nvPr/>
        </p:nvSpPr>
        <p:spPr>
          <a:xfrm>
            <a:off x="45720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FED-316B-4D37-BFFE-E5766ADB5F6D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Foliennummernplatzhalter 5"/>
          <p:cNvSpPr/>
          <p:nvPr/>
        </p:nvSpPr>
        <p:spPr>
          <a:xfrm>
            <a:off x="655308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675-422A-45C6-BF7D-6450C1122B49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146160" y="871560"/>
            <a:ext cx="41529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Risikosituation vor Maßnahm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40" y="6480"/>
            <a:ext cx="854568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Risikobericht Monat: Projektname 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graphicFrame>
        <p:nvGraphicFramePr>
          <p:cNvPr id="183" name="Diagramm 9"/>
          <p:cNvGraphicFramePr/>
          <p:nvPr/>
        </p:nvGraphicFramePr>
        <p:xfrm>
          <a:off x="95400" y="1081080"/>
          <a:ext cx="4254480" cy="34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Diagramm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81080"/>
                    <a:ext cx="425448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13"/>
          <p:cNvSpPr/>
          <p:nvPr/>
        </p:nvSpPr>
        <p:spPr>
          <a:xfrm>
            <a:off x="4519440" y="874800"/>
            <a:ext cx="4373640" cy="18396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Risikosituation nach Maßnahm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6" name="Diagramm 11"/>
          <p:cNvGraphicFramePr/>
          <p:nvPr/>
        </p:nvGraphicFramePr>
        <p:xfrm>
          <a:off x="4468680" y="1081080"/>
          <a:ext cx="4475160" cy="34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Diagramm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8680" y="1081080"/>
                    <a:ext cx="447516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3"/>
          <p:cNvSpPr/>
          <p:nvPr/>
        </p:nvSpPr>
        <p:spPr>
          <a:xfrm>
            <a:off x="146160" y="4641840"/>
            <a:ext cx="2324160" cy="18576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Risikowert vor Maßnahme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2521080" y="4641840"/>
            <a:ext cx="80172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532.700,00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3811680" y="4651200"/>
            <a:ext cx="48420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13,3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403440" y="4641840"/>
            <a:ext cx="327240" cy="18576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In %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519440" y="4641840"/>
            <a:ext cx="1551240" cy="18576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Risikowert nach Maßnahme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6108840" y="4641840"/>
            <a:ext cx="80172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54.900,00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8404200" y="4651200"/>
            <a:ext cx="48420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1,4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991200" y="4641840"/>
            <a:ext cx="1316160" cy="18576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Risikowert in %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519440" y="4871880"/>
            <a:ext cx="3787920" cy="18576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irtschaftlichkeit des Risikobudge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8404200" y="4867200"/>
            <a:ext cx="48420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4,29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146160" y="4862520"/>
            <a:ext cx="2324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Risikobudget für Maßnahme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2521080" y="4862520"/>
            <a:ext cx="80172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111.500,00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06:14Z</dcterms:created>
  <dc:creator/>
  <dc:description/>
  <dc:language>en-US</dc:language>
  <cp:lastModifiedBy>Frick, Andreas</cp:lastModifiedBy>
  <dcterms:modified xsi:type="dcterms:W3CDTF">2023-06-05T17:50:24Z</dcterms:modified>
  <cp:revision>601</cp:revision>
  <dc:subject/>
  <dc:title>Risikobericht Monat: Projektname </dc:title>
</cp:coreProperties>
</file>